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7.jpeg" ContentType="image/jpeg"/>
  <Override PartName="/ppt/media/image28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19.jpeg" ContentType="image/jpeg"/>
  <Override PartName="/ppt/media/image25.png" ContentType="image/pn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32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11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488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479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ZA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ZA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ZA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FD430-F988-4827-A1D0-FE5A52A5EAB6}" type="slidenum">
              <a:rPr b="0" lang="en-ZA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2E4-2271-4918-B7DC-9263DEB9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37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4041000"/>
            <a:ext cx="9037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3E8-8E20-4761-9EC0-4533F994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00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4320" y="1767960"/>
            <a:ext cx="44100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041000"/>
            <a:ext cx="44100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4320" y="4041000"/>
            <a:ext cx="44100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DC9-0312-4E43-A8F6-199131B0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0988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58960" y="1767960"/>
            <a:ext cx="290988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14640" y="1767960"/>
            <a:ext cx="290988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4041000"/>
            <a:ext cx="290988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58960" y="4041000"/>
            <a:ext cx="290988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14640" y="4041000"/>
            <a:ext cx="290988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1C1-457E-4922-BE01-46A441F2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37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088-A8B2-4E1D-AB30-6F8D1F04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37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4AC-AC2C-4797-BC4A-A9DC15EE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0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4320" y="1767960"/>
            <a:ext cx="4410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6B4-C928-410B-83EE-33BC73AD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A44-2B7C-400A-B542-EAB41BCD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37440" cy="56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1F8-7A67-4483-8873-B00D2F16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00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4320" y="1767960"/>
            <a:ext cx="4410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4041000"/>
            <a:ext cx="44100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917-C798-4281-835A-F10E68A1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0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4320" y="1767960"/>
            <a:ext cx="44100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4320" y="4041000"/>
            <a:ext cx="44100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940C-96AE-4205-B217-F30E7F18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00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4320" y="1767960"/>
            <a:ext cx="441000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4041000"/>
            <a:ext cx="90374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AD4D-22B7-4FB6-BE47-EFA7727E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37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374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1444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Z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6224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Z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1480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Z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D72CE-C40A-4579-A919-1BF87AC84AB8}" type="slidenum">
              <a:rPr b="0" lang="en-Z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4680" y="-3240"/>
            <a:ext cx="10072440" cy="7559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999640" y="6746760"/>
            <a:ext cx="1079280" cy="81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.pn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843280"/>
            <a:ext cx="1008072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ZA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An introduction to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Owls (Gwitha, Xikhovha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of South Afr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September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Arial"/>
              </a:rPr>
              <a:t>By Dr Steven W Ev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67080" y="250920"/>
            <a:ext cx="2879640" cy="2166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40240" y="209520"/>
            <a:ext cx="22860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42800" y="209520"/>
            <a:ext cx="6324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430880" y="5942160"/>
            <a:ext cx="2271600" cy="1439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31640" y="5902200"/>
            <a:ext cx="3827520" cy="1440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734160" y="1036800"/>
            <a:ext cx="3052800" cy="197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49400" y="4471920"/>
            <a:ext cx="4375080" cy="801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262480" y="3963960"/>
            <a:ext cx="1616040" cy="1440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7920" y="2955960"/>
            <a:ext cx="5394240" cy="111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6878520" y="2698920"/>
            <a:ext cx="2660760" cy="1587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100080" y="1219320"/>
            <a:ext cx="4416480" cy="1619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7265880" y="5800680"/>
            <a:ext cx="1536840" cy="1440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7477200" y="4102200"/>
            <a:ext cx="2038320" cy="143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4600440" y="1219320"/>
            <a:ext cx="212724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42800" y="209520"/>
            <a:ext cx="8988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1150920"/>
            <a:ext cx="87836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0340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1166760"/>
            <a:ext cx="583236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Owls are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244 species World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49 species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12 species in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Nocturnal – active at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3040" y="3944880"/>
            <a:ext cx="6708960" cy="3506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624720" y="1871640"/>
            <a:ext cx="316872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42800" y="209520"/>
            <a:ext cx="8988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12 species of owls in South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7640" y="1150920"/>
            <a:ext cx="87836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0340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280" y="4659480"/>
            <a:ext cx="1728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000" spc="-1" strike="noStrike">
                <a:solidFill>
                  <a:srgbClr val="009933"/>
                </a:solidFill>
                <a:latin typeface="Arial"/>
              </a:rPr>
              <a:t>6 Western Barn 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3440" y="1100160"/>
            <a:ext cx="4842000" cy="6332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19240" y="1325520"/>
            <a:ext cx="19764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1 Pel’s Fishing-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0520" y="5824440"/>
            <a:ext cx="2211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10 Marsh 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07240" y="6148440"/>
            <a:ext cx="1728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11 African Grass- 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67640" y="4284720"/>
            <a:ext cx="2268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8 Southern White-faced 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0520" y="3557520"/>
            <a:ext cx="2211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4 African Barred Ow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10480" y="1398600"/>
            <a:ext cx="1728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3 Cape Eagle-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705800" y="2403360"/>
            <a:ext cx="1728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000" spc="-1" strike="noStrike">
                <a:solidFill>
                  <a:srgbClr val="009933"/>
                </a:solidFill>
                <a:latin typeface="Arial"/>
              </a:rPr>
              <a:t>5 Spotted Eagle-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68600" y="1282680"/>
            <a:ext cx="600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79880" y="1681200"/>
            <a:ext cx="600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72240" y="1284120"/>
            <a:ext cx="600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3411360"/>
            <a:ext cx="600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70680" y="3160800"/>
            <a:ext cx="600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200" spc="-1" strike="noStrike">
                <a:solidFill>
                  <a:srgbClr val="009933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5040" y="4492800"/>
            <a:ext cx="600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200" spc="-1" strike="noStrike">
                <a:solidFill>
                  <a:srgbClr val="009933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363760"/>
            <a:ext cx="19764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2 Africa Wood 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46560" y="4567320"/>
            <a:ext cx="600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7000" y="3814920"/>
            <a:ext cx="600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86720" y="3432240"/>
            <a:ext cx="1728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7 African Scops 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32640" y="4859280"/>
            <a:ext cx="600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200" spc="-1" strike="noStrike">
                <a:solidFill>
                  <a:srgbClr val="009933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50000" y="5268960"/>
            <a:ext cx="2213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000" spc="-1" strike="noStrike">
                <a:solidFill>
                  <a:srgbClr val="009933"/>
                </a:solidFill>
                <a:latin typeface="Arial"/>
              </a:rPr>
              <a:t>9 Verreaux’s Eagle -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05000" y="6010200"/>
            <a:ext cx="600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73520" y="6842160"/>
            <a:ext cx="600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4898880"/>
            <a:ext cx="600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200" spc="-1" strike="noStrike">
                <a:solidFill>
                  <a:srgbClr val="009933"/>
                </a:solidFill>
                <a:latin typeface="Arial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6360" y="6438960"/>
            <a:ext cx="2195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000" spc="-1" strike="noStrike">
                <a:solidFill>
                  <a:srgbClr val="009933"/>
                </a:solidFill>
                <a:latin typeface="Arial"/>
              </a:rPr>
              <a:t>12 Pearl-spotted Ow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2800" y="209520"/>
            <a:ext cx="8988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Owl food and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640" y="1150920"/>
            <a:ext cx="87836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0340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8840" y="1044720"/>
            <a:ext cx="4464000" cy="3240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68200" y="4286160"/>
            <a:ext cx="4557960" cy="3240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876920" y="1647720"/>
            <a:ext cx="50799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42800" y="209520"/>
            <a:ext cx="8988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Western Barn Owl </a:t>
            </a:r>
            <a:r>
              <a:rPr b="1" i="1" lang="en-ZA" sz="3200" spc="-1" strike="noStrike">
                <a:solidFill>
                  <a:srgbClr val="000000"/>
                </a:solidFill>
                <a:latin typeface="Arial"/>
              </a:rPr>
              <a:t>Tyto al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1150920"/>
            <a:ext cx="87836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0340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824440" y="1116000"/>
            <a:ext cx="4125960" cy="2519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7840" y="1079640"/>
            <a:ext cx="3135240" cy="3727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77840" y="4356000"/>
            <a:ext cx="4645080" cy="309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3478320" y="1117440"/>
          <a:ext cx="2310840" cy="3130200"/>
        </p:xfrm>
        <a:graphic>
          <a:graphicData uri="http://schemas.openxmlformats.org/drawingml/2006/table">
            <a:tbl>
              <a:tblPr/>
              <a:tblGrid>
                <a:gridCol w="911520"/>
                <a:gridCol w="1399320"/>
              </a:tblGrid>
              <a:tr h="1451520">
                <a:tc>
                  <a:txBody>
                    <a:bodyPr lIns="90000" rIns="90000" tIns="874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4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s and mice, also birds, lizards, frogs insec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8680">
                <a:tc>
                  <a:txBody>
                    <a:bodyPr lIns="90000" rIns="90000" tIns="874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4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cavities in trees and cliffs, also houses, old Hamerkop n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987800" y="6588000"/>
          <a:ext cx="3630240" cy="718920"/>
        </p:xfrm>
        <a:graphic>
          <a:graphicData uri="http://schemas.openxmlformats.org/drawingml/2006/table">
            <a:tbl>
              <a:tblPr/>
              <a:tblGrid>
                <a:gridCol w="1168920"/>
                <a:gridCol w="908280"/>
                <a:gridCol w="1553040"/>
              </a:tblGrid>
              <a:tr h="359280"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g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– 34 day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9640"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ling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– 55 day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191280" y="3838680"/>
            <a:ext cx="3743280" cy="249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4937040" y="4530600"/>
          <a:ext cx="1041120" cy="657000"/>
        </p:xfrm>
        <a:graphic>
          <a:graphicData uri="http://schemas.openxmlformats.org/drawingml/2006/table">
            <a:tbl>
              <a:tblPr/>
              <a:tblGrid>
                <a:gridCol w="1041120"/>
              </a:tblGrid>
              <a:tr h="657000"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2800" y="209520"/>
            <a:ext cx="8988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Spotted Eagle-Owl </a:t>
            </a:r>
            <a:r>
              <a:rPr b="1" i="1" lang="en-ZA" sz="3200" spc="-1" strike="noStrike">
                <a:solidFill>
                  <a:srgbClr val="000000"/>
                </a:solidFill>
                <a:latin typeface="Arial"/>
              </a:rPr>
              <a:t>Bubo afric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640" y="1150920"/>
            <a:ext cx="87836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0340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1760" y="1058760"/>
            <a:ext cx="2898720" cy="4319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62000" y="5483160"/>
            <a:ext cx="2898720" cy="1933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821200" y="1058760"/>
            <a:ext cx="4078440" cy="251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3298680" y="1082520"/>
          <a:ext cx="2312640" cy="3122280"/>
        </p:xfrm>
        <a:graphic>
          <a:graphicData uri="http://schemas.openxmlformats.org/drawingml/2006/table">
            <a:tbl>
              <a:tblPr/>
              <a:tblGrid>
                <a:gridCol w="911880"/>
                <a:gridCol w="1400760"/>
              </a:tblGrid>
              <a:tr h="1674000">
                <a:tc>
                  <a:txBody>
                    <a:bodyPr lIns="90000" rIns="90000" tIns="874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4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s and mice, rabbits, hares, bushbaby, also birds,  insec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8280">
                <a:tc>
                  <a:txBody>
                    <a:bodyPr lIns="90000" rIns="90000" tIns="874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4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cavities in trees and cliffs, on the ground, on build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987800" y="6372360"/>
          <a:ext cx="3632040" cy="950400"/>
        </p:xfrm>
        <a:graphic>
          <a:graphicData uri="http://schemas.openxmlformats.org/drawingml/2006/table">
            <a:tbl>
              <a:tblPr/>
              <a:tblGrid>
                <a:gridCol w="1168920"/>
                <a:gridCol w="908280"/>
                <a:gridCol w="1554840"/>
              </a:tblGrid>
              <a:tr h="358920"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g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– 33 day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1480"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ling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38 day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– 42 day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759280" y="3664080"/>
            <a:ext cx="3819600" cy="2519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168720" y="5111640"/>
            <a:ext cx="1730160" cy="230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4519440" y="4362480"/>
          <a:ext cx="1042920" cy="618840"/>
        </p:xfrm>
        <a:graphic>
          <a:graphicData uri="http://schemas.openxmlformats.org/drawingml/2006/table">
            <a:tbl>
              <a:tblPr/>
              <a:tblGrid>
                <a:gridCol w="1042920"/>
              </a:tblGrid>
              <a:tr h="618840"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42800" y="209520"/>
            <a:ext cx="8988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Verreaux’s Eagle-Owl </a:t>
            </a:r>
            <a:r>
              <a:rPr b="1" i="1" lang="en-ZA" sz="3200" spc="-1" strike="noStrike">
                <a:solidFill>
                  <a:srgbClr val="000000"/>
                </a:solidFill>
                <a:latin typeface="Arial"/>
              </a:rPr>
              <a:t>Bubo lact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640" y="1150920"/>
            <a:ext cx="87836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0340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659640" y="1079640"/>
            <a:ext cx="3297240" cy="4319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4360" y="1077840"/>
            <a:ext cx="4097520" cy="25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4206960" y="6531120"/>
          <a:ext cx="3631680" cy="867960"/>
        </p:xfrm>
        <a:graphic>
          <a:graphicData uri="http://schemas.openxmlformats.org/drawingml/2006/table">
            <a:tbl>
              <a:tblPr/>
              <a:tblGrid>
                <a:gridCol w="1168560"/>
                <a:gridCol w="908640"/>
                <a:gridCol w="1554480"/>
              </a:tblGrid>
              <a:tr h="442080"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g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– 39 day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880"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ling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– 63 day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222800" y="1049400"/>
          <a:ext cx="2314080" cy="3349080"/>
        </p:xfrm>
        <a:graphic>
          <a:graphicData uri="http://schemas.openxmlformats.org/drawingml/2006/table">
            <a:tbl>
              <a:tblPr/>
              <a:tblGrid>
                <a:gridCol w="911520"/>
                <a:gridCol w="1402560"/>
              </a:tblGrid>
              <a:tr h="1900800">
                <a:tc>
                  <a:txBody>
                    <a:bodyPr lIns="90000" rIns="90000" tIns="874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4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s, Mice, rabbits, snakes, baby monkey, birds, also herons and flaming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8280">
                <a:tc>
                  <a:txBody>
                    <a:bodyPr lIns="90000" rIns="90000" tIns="874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4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twig platform in trees, on top of Hamerkop n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79280" y="3951360"/>
            <a:ext cx="3892680" cy="3247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176720" y="4788000"/>
            <a:ext cx="2376360" cy="150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7520040" y="5504040"/>
          <a:ext cx="2349000" cy="975600"/>
        </p:xfrm>
        <a:graphic>
          <a:graphicData uri="http://schemas.openxmlformats.org/drawingml/2006/table">
            <a:tbl>
              <a:tblPr/>
              <a:tblGrid>
                <a:gridCol w="1175400"/>
                <a:gridCol w="1173600"/>
              </a:tblGrid>
              <a:tr h="591120"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 k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c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480"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 k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42800" y="209520"/>
            <a:ext cx="8988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Pearl-spotted Owlet </a:t>
            </a:r>
            <a:r>
              <a:rPr b="1" i="1" lang="en-ZA" sz="3200" spc="-1" strike="noStrike">
                <a:solidFill>
                  <a:srgbClr val="000000"/>
                </a:solidFill>
                <a:latin typeface="Arial"/>
              </a:rPr>
              <a:t>Glaucidium perla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640" y="1150920"/>
            <a:ext cx="87836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0340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091280" y="1044720"/>
            <a:ext cx="2882880" cy="43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406760" y="1065240"/>
          <a:ext cx="2471400" cy="2249280"/>
        </p:xfrm>
        <a:graphic>
          <a:graphicData uri="http://schemas.openxmlformats.org/drawingml/2006/table">
            <a:tbl>
              <a:tblPr/>
              <a:tblGrid>
                <a:gridCol w="833760"/>
                <a:gridCol w="1637640"/>
              </a:tblGrid>
              <a:tr h="1113480">
                <a:tc>
                  <a:txBody>
                    <a:bodyPr lIns="90000" rIns="90000" tIns="874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4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ects, small rats and mice, birds, bats, lizards, snak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5800">
                <a:tc>
                  <a:txBody>
                    <a:bodyPr lIns="90000" rIns="90000" tIns="874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4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es of woodpeckers, natural cavity or nest b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122800" y="6656400"/>
          <a:ext cx="3632040" cy="791640"/>
        </p:xfrm>
        <a:graphic>
          <a:graphicData uri="http://schemas.openxmlformats.org/drawingml/2006/table">
            <a:tbl>
              <a:tblPr/>
              <a:tblGrid>
                <a:gridCol w="1168920"/>
                <a:gridCol w="908280"/>
                <a:gridCol w="1554840"/>
              </a:tblGrid>
              <a:tr h="392400"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g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– 33 day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240"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ling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38 day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39680" y="1041480"/>
            <a:ext cx="4075200" cy="25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7302600" y="5608800"/>
          <a:ext cx="1041120" cy="656640"/>
        </p:xfrm>
        <a:graphic>
          <a:graphicData uri="http://schemas.openxmlformats.org/drawingml/2006/table">
            <a:tbl>
              <a:tblPr/>
              <a:tblGrid>
                <a:gridCol w="1041120"/>
              </a:tblGrid>
              <a:tr h="656640"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44360" y="3697200"/>
            <a:ext cx="2519640" cy="3754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843280" y="3672000"/>
            <a:ext cx="41068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42800" y="209520"/>
            <a:ext cx="8988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7640" y="1150920"/>
            <a:ext cx="87836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0340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3280" y="1274760"/>
            <a:ext cx="92883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Owls are birds as they have fea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Owls are active at night when we are slee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Owls eat rats, mice, lizards, frogs, birds, insects...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Owls help people by catching and eating rats and m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Owls nest in trees, on the ground and in buil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Owls range in size from small (76 g) to large (2.3 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Owls should be looked after (conserved) like all other animals and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8T06:10:03Z</dcterms:created>
  <dc:creator/>
  <dc:description/>
  <dc:language>en-US</dc:language>
  <cp:lastModifiedBy>Steven W. Evans</cp:lastModifiedBy>
  <dcterms:modified xsi:type="dcterms:W3CDTF">2016-09-27T09:49:14Z</dcterms:modified>
  <cp:revision>535</cp:revision>
  <dc:subject/>
  <dc:title/>
</cp:coreProperties>
</file>