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5"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274920" cy="53028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279680" y="-360"/>
            <a:ext cx="3274920" cy="53028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360" y="10156320"/>
            <a:ext cx="3274920" cy="53028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279680" y="10156320"/>
            <a:ext cx="3274920" cy="53028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9D85E4-435B-4A79-8DA1-3F28E729E69E}"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06640" y="812880"/>
            <a:ext cx="5344920" cy="4008240"/>
          </a:xfrm>
          <a:prstGeom prst="rect">
            <a:avLst/>
          </a:prstGeom>
          <a:ln w="0">
            <a:noFill/>
          </a:ln>
        </p:spPr>
      </p:sp>
      <p:sp>
        <p:nvSpPr>
          <p:cNvPr id="103"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6640" y="812880"/>
            <a:ext cx="5344920" cy="4008240"/>
          </a:xfrm>
          <a:prstGeom prst="rect">
            <a:avLst/>
          </a:prstGeom>
          <a:ln w="0">
            <a:noFill/>
          </a:ln>
        </p:spPr>
      </p:sp>
      <p:sp>
        <p:nvSpPr>
          <p:cNvPr id="12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06640" y="812880"/>
            <a:ext cx="5344920" cy="4008240"/>
          </a:xfrm>
          <a:prstGeom prst="rect">
            <a:avLst/>
          </a:prstGeom>
          <a:ln w="0">
            <a:noFill/>
          </a:ln>
        </p:spPr>
      </p:sp>
      <p:sp>
        <p:nvSpPr>
          <p:cNvPr id="123"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6640" y="812880"/>
            <a:ext cx="5344920" cy="4008240"/>
          </a:xfrm>
          <a:prstGeom prst="rect">
            <a:avLst/>
          </a:prstGeom>
          <a:ln w="0">
            <a:noFill/>
          </a:ln>
        </p:spPr>
      </p:sp>
      <p:sp>
        <p:nvSpPr>
          <p:cNvPr id="125"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6640" y="812880"/>
            <a:ext cx="5344920" cy="4008240"/>
          </a:xfrm>
          <a:prstGeom prst="rect">
            <a:avLst/>
          </a:prstGeom>
          <a:ln w="0">
            <a:noFill/>
          </a:ln>
        </p:spPr>
      </p:sp>
      <p:sp>
        <p:nvSpPr>
          <p:cNvPr id="12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6640" y="812880"/>
            <a:ext cx="5344920" cy="4008240"/>
          </a:xfrm>
          <a:prstGeom prst="rect">
            <a:avLst/>
          </a:prstGeom>
          <a:ln w="0">
            <a:noFill/>
          </a:ln>
        </p:spPr>
      </p:sp>
      <p:sp>
        <p:nvSpPr>
          <p:cNvPr id="129"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6640" y="812880"/>
            <a:ext cx="5344920" cy="4008240"/>
          </a:xfrm>
          <a:prstGeom prst="rect">
            <a:avLst/>
          </a:prstGeom>
          <a:ln w="0">
            <a:noFill/>
          </a:ln>
        </p:spPr>
      </p:sp>
      <p:sp>
        <p:nvSpPr>
          <p:cNvPr id="13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6640" y="812880"/>
            <a:ext cx="5344920" cy="4008240"/>
          </a:xfrm>
          <a:prstGeom prst="rect">
            <a:avLst/>
          </a:prstGeom>
          <a:ln w="0">
            <a:noFill/>
          </a:ln>
        </p:spPr>
      </p:sp>
      <p:sp>
        <p:nvSpPr>
          <p:cNvPr id="133"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6640" y="812880"/>
            <a:ext cx="5344920" cy="4008240"/>
          </a:xfrm>
          <a:prstGeom prst="rect">
            <a:avLst/>
          </a:prstGeom>
          <a:ln w="0">
            <a:noFill/>
          </a:ln>
        </p:spPr>
      </p:sp>
      <p:sp>
        <p:nvSpPr>
          <p:cNvPr id="135"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6640" y="812880"/>
            <a:ext cx="5344920" cy="4008240"/>
          </a:xfrm>
          <a:prstGeom prst="rect">
            <a:avLst/>
          </a:prstGeom>
          <a:ln w="0">
            <a:noFill/>
          </a:ln>
        </p:spPr>
      </p:sp>
      <p:sp>
        <p:nvSpPr>
          <p:cNvPr id="13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6640" y="812880"/>
            <a:ext cx="5344920" cy="4008240"/>
          </a:xfrm>
          <a:prstGeom prst="rect">
            <a:avLst/>
          </a:prstGeom>
          <a:ln w="0">
            <a:noFill/>
          </a:ln>
        </p:spPr>
      </p:sp>
      <p:sp>
        <p:nvSpPr>
          <p:cNvPr id="139"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6640" y="812880"/>
            <a:ext cx="5344920" cy="4008240"/>
          </a:xfrm>
          <a:prstGeom prst="rect">
            <a:avLst/>
          </a:prstGeom>
          <a:ln w="0">
            <a:noFill/>
          </a:ln>
        </p:spPr>
      </p:sp>
      <p:sp>
        <p:nvSpPr>
          <p:cNvPr id="105"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6640" y="812880"/>
            <a:ext cx="5344920" cy="4008240"/>
          </a:xfrm>
          <a:prstGeom prst="rect">
            <a:avLst/>
          </a:prstGeom>
          <a:ln w="0">
            <a:noFill/>
          </a:ln>
        </p:spPr>
      </p:sp>
      <p:sp>
        <p:nvSpPr>
          <p:cNvPr id="14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6640" y="812880"/>
            <a:ext cx="5344920" cy="4008240"/>
          </a:xfrm>
          <a:prstGeom prst="rect">
            <a:avLst/>
          </a:prstGeom>
          <a:ln w="0">
            <a:noFill/>
          </a:ln>
        </p:spPr>
      </p:sp>
      <p:sp>
        <p:nvSpPr>
          <p:cNvPr id="143"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6640" y="812880"/>
            <a:ext cx="5344920" cy="4008240"/>
          </a:xfrm>
          <a:prstGeom prst="rect">
            <a:avLst/>
          </a:prstGeom>
          <a:ln w="0">
            <a:noFill/>
          </a:ln>
        </p:spPr>
      </p:sp>
      <p:sp>
        <p:nvSpPr>
          <p:cNvPr id="145"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6640" y="812880"/>
            <a:ext cx="5344920" cy="4008240"/>
          </a:xfrm>
          <a:prstGeom prst="rect">
            <a:avLst/>
          </a:prstGeom>
          <a:ln w="0">
            <a:noFill/>
          </a:ln>
        </p:spPr>
      </p:sp>
      <p:sp>
        <p:nvSpPr>
          <p:cNvPr id="14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6640" y="812880"/>
            <a:ext cx="5344920" cy="4008240"/>
          </a:xfrm>
          <a:prstGeom prst="rect">
            <a:avLst/>
          </a:prstGeom>
          <a:ln w="0">
            <a:noFill/>
          </a:ln>
        </p:spPr>
      </p:sp>
      <p:sp>
        <p:nvSpPr>
          <p:cNvPr id="149"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6640" y="812880"/>
            <a:ext cx="5344920" cy="4008240"/>
          </a:xfrm>
          <a:prstGeom prst="rect">
            <a:avLst/>
          </a:prstGeom>
          <a:ln w="0">
            <a:noFill/>
          </a:ln>
        </p:spPr>
      </p:sp>
      <p:sp>
        <p:nvSpPr>
          <p:cNvPr id="15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6640" y="812880"/>
            <a:ext cx="5344920" cy="4008240"/>
          </a:xfrm>
          <a:prstGeom prst="rect">
            <a:avLst/>
          </a:prstGeom>
          <a:ln w="0">
            <a:noFill/>
          </a:ln>
        </p:spPr>
      </p:sp>
      <p:sp>
        <p:nvSpPr>
          <p:cNvPr id="10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6640" y="812880"/>
            <a:ext cx="5344920" cy="4008240"/>
          </a:xfrm>
          <a:prstGeom prst="rect">
            <a:avLst/>
          </a:prstGeom>
          <a:ln w="0">
            <a:noFill/>
          </a:ln>
        </p:spPr>
      </p:sp>
      <p:sp>
        <p:nvSpPr>
          <p:cNvPr id="109"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6640" y="812880"/>
            <a:ext cx="5344920" cy="4008240"/>
          </a:xfrm>
          <a:prstGeom prst="rect">
            <a:avLst/>
          </a:prstGeom>
          <a:ln w="0">
            <a:noFill/>
          </a:ln>
        </p:spPr>
      </p:sp>
      <p:sp>
        <p:nvSpPr>
          <p:cNvPr id="11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6640" y="812880"/>
            <a:ext cx="5344920" cy="4008240"/>
          </a:xfrm>
          <a:prstGeom prst="rect">
            <a:avLst/>
          </a:prstGeom>
          <a:ln w="0">
            <a:noFill/>
          </a:ln>
        </p:spPr>
      </p:sp>
      <p:sp>
        <p:nvSpPr>
          <p:cNvPr id="113"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06640" y="812880"/>
            <a:ext cx="5344920" cy="4008240"/>
          </a:xfrm>
          <a:prstGeom prst="rect">
            <a:avLst/>
          </a:prstGeom>
          <a:ln w="0">
            <a:noFill/>
          </a:ln>
        </p:spPr>
      </p:sp>
      <p:sp>
        <p:nvSpPr>
          <p:cNvPr id="115"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06640" y="812880"/>
            <a:ext cx="5344920" cy="4008240"/>
          </a:xfrm>
          <a:prstGeom prst="rect">
            <a:avLst/>
          </a:prstGeom>
          <a:ln w="0">
            <a:noFill/>
          </a:ln>
        </p:spPr>
      </p:sp>
      <p:sp>
        <p:nvSpPr>
          <p:cNvPr id="11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6640" y="812880"/>
            <a:ext cx="5344920" cy="4008240"/>
          </a:xfrm>
          <a:prstGeom prst="rect">
            <a:avLst/>
          </a:prstGeom>
          <a:ln w="0">
            <a:noFill/>
          </a:ln>
        </p:spPr>
      </p:sp>
      <p:sp>
        <p:nvSpPr>
          <p:cNvPr id="119"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3F594-157D-4401-BDA5-FFA53ABF8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360"/>
            <a:ext cx="9066240" cy="12574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5CAE6-D3FF-46EB-BE83-510B4D19F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360"/>
            <a:ext cx="9066240" cy="12574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25034-A452-4E6B-BA4A-B95E9863C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360"/>
            <a:ext cx="9066240" cy="12574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5D928-D956-46EE-B052-1C6FD5408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360"/>
            <a:ext cx="9066240" cy="12574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9A7E7-AC68-4A60-9A87-F058E4A7F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360"/>
            <a:ext cx="9066240" cy="12574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0BA94-C2CF-4B0A-8CA5-33745771C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360"/>
            <a:ext cx="9066240" cy="12574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C201E-CD11-47CF-B3C1-BBDE948E4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360"/>
            <a:ext cx="9066240" cy="12574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9CE7A-5F2B-4C75-8EDA-543B3912B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360"/>
            <a:ext cx="9066240" cy="58302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9437B-B7AE-4F76-B40D-2921F6A24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60"/>
            <a:ext cx="9066240" cy="12574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59D8E-6DE2-400B-99E2-1C0866230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60"/>
            <a:ext cx="9066240" cy="12574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ED069-909D-4DA7-95B5-E61A683F5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360"/>
            <a:ext cx="9066240" cy="12574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814D5-94E2-41C0-AF78-32447B6C2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60"/>
            <a:ext cx="9066240" cy="125748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i-FI"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92E4C6-41E1-4507-8F8F-2D5CE10268AB}" type="slidenum">
              <a:rPr b="0" lang="fi-FI"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ceopedia.org/index.php/Krzysztof_Wozniak"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mfiles.pl/pl/index.php/Zarz&#261;dzanie_dokumentami"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mfiles.pl/pl/index.php/Baza_wiedzy"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51"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200" spc="-1" strike="noStrike">
                <a:solidFill>
                  <a:srgbClr val="000000"/>
                </a:solidFill>
                <a:latin typeface="Arial"/>
              </a:rPr>
              <a:t>Wykład #2</a:t>
            </a: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3200" spc="-1" strike="noStrike">
                <a:solidFill>
                  <a:srgbClr val="000000"/>
                </a:solidFill>
                <a:latin typeface="Arial"/>
              </a:rPr>
              <a:t>Systemy Informacji Jakościowej</a:t>
            </a: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3200" spc="-1" strike="noStrike">
                <a:solidFill>
                  <a:srgbClr val="000000"/>
                </a:solidFill>
                <a:latin typeface="Arial"/>
              </a:rPr>
              <a:t>Rozwiązania praktyczne</a:t>
            </a: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700" spc="-1" strike="noStrike" u="sng">
                <a:solidFill>
                  <a:srgbClr val="ccccff"/>
                </a:solidFill>
                <a:uFillTx/>
                <a:latin typeface="Arial"/>
                <a:hlinkClick r:id="rId2"/>
              </a:rPr>
              <a:t>Krzysztof Woźniak</a:t>
            </a:r>
            <a:endParaRPr b="0" lang="en-US" sz="17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i-FI" sz="1700" spc="-1" strike="noStrike">
                <a:solidFill>
                  <a:srgbClr val="000000"/>
                </a:solidFill>
                <a:latin typeface="Arial"/>
              </a:rPr>
              <a:t>Uniwersytet Ekonomiczny w Krakowi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69" name="PlaceHolder 2"/>
          <p:cNvSpPr>
            <a:spLocks noGrp="1"/>
          </p:cNvSpPr>
          <p:nvPr>
            <p:ph/>
          </p:nvPr>
        </p:nvSpPr>
        <p:spPr>
          <a:xfrm>
            <a:off x="502920" y="1767960"/>
            <a:ext cx="9070920" cy="548028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zarządzania relacjami z klientem (CRM - Customer Relationships Management)</a:t>
            </a:r>
            <a:endParaRPr b="0" lang="en-US" sz="32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Jest to grupa technik i narzędzi  pozwalających na rejestrację wszelkich informacji o kliencie dotyczących nie tylko jego transakcji z przedsiębiorstwem (faktury, zamówienia itp.) ale również informacji o jego opinii, gustach, niezrealizowanych zleceniach, problemach, kontaktach telefonicznych itp. Pozwala to na zindywidualizowanie oferty dla klientów, podniesienie efektywności jego obsługi, zwiększenie jego zadowolenia z usług i produktów firmy.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71" name="PlaceHolder 2"/>
          <p:cNvSpPr>
            <a:spLocks noGrp="1"/>
          </p:cNvSpPr>
          <p:nvPr>
            <p:ph/>
          </p:nvPr>
        </p:nvSpPr>
        <p:spPr>
          <a:xfrm>
            <a:off x="502920" y="1767960"/>
            <a:ext cx="9070920" cy="548028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zarządzania relacjami z klientem (CRM - Customer Relationships Management)</a:t>
            </a:r>
            <a:endParaRPr b="0" lang="en-US" sz="32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Mimo, że systemy CRM są utożsamiane jedynie z narzędziami informatycznymi, to jednak do ich właściwego funkcjonowania konieczne jest ich umiejętne umiejscowienie w strategii i stworzenie właściwej kultury organizacyjnej firmy wspomagającej funkcjonowanie tych systemów. W dziedzinie zarządzania jakością informatyczne systemy CRM służą przed wszystkim gromadzeniu i organizowaniu zapisów związanych z klientami i usprawniają ogólno organizacyjne procesy jego obsługi</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73" name="PlaceHolder 2"/>
          <p:cNvSpPr>
            <a:spLocks noGrp="1"/>
          </p:cNvSpPr>
          <p:nvPr>
            <p:ph/>
          </p:nvPr>
        </p:nvSpPr>
        <p:spPr>
          <a:xfrm>
            <a:off x="502920" y="1768320"/>
            <a:ext cx="9070920" cy="5129280"/>
          </a:xfrm>
          <a:prstGeom prst="rect">
            <a:avLst/>
          </a:prstGeom>
          <a:noFill/>
          <a:ln w="0">
            <a:noFill/>
          </a:ln>
        </p:spPr>
        <p:txBody>
          <a:bodyPr lIns="0" rIns="0" tIns="28080" bIns="0" anchor="t">
            <a:normAutofit fontScale="99000"/>
          </a:bodyPr>
          <a:p>
            <a:pPr marL="424440" indent="-32076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zarządzania relacjami z klientem (CRM - Customer Relationships Management)</a:t>
            </a:r>
            <a:endParaRPr b="0" lang="en-US" sz="32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Najważniejsze funkcje:</a:t>
            </a:r>
            <a:endParaRPr b="0" lang="en-US" sz="2800" spc="-1" strike="noStrike">
              <a:solidFill>
                <a:srgbClr val="000000"/>
              </a:solidFill>
              <a:latin typeface="Arial"/>
            </a:endParaRPr>
          </a:p>
          <a:p>
            <a:pPr lvl="2" marL="1279440" indent="-21240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automatyzacja sprzedaży,</a:t>
            </a:r>
            <a:endParaRPr b="0" lang="en-US" sz="2400" spc="-1" strike="noStrike">
              <a:solidFill>
                <a:srgbClr val="000000"/>
              </a:solidFill>
              <a:latin typeface="Arial"/>
            </a:endParaRPr>
          </a:p>
          <a:p>
            <a:pPr lvl="2" marL="1279440" indent="-21240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obsługa ”Call center”</a:t>
            </a:r>
            <a:endParaRPr b="0" lang="en-US" sz="2400" spc="-1" strike="noStrike">
              <a:solidFill>
                <a:srgbClr val="000000"/>
              </a:solidFill>
              <a:latin typeface="Arial"/>
            </a:endParaRPr>
          </a:p>
          <a:p>
            <a:pPr lvl="2" marL="1279440" indent="-21240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baza danych kontaktów z klientem,</a:t>
            </a:r>
            <a:endParaRPr b="0" lang="en-US" sz="2400" spc="-1" strike="noStrike">
              <a:solidFill>
                <a:srgbClr val="000000"/>
              </a:solidFill>
              <a:latin typeface="Arial"/>
            </a:endParaRPr>
          </a:p>
          <a:p>
            <a:pPr lvl="2" marL="1279440" indent="-21240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zarządzanie wiedzą o kliencie,</a:t>
            </a:r>
            <a:endParaRPr b="0" lang="en-US" sz="2400" spc="-1" strike="noStrike">
              <a:solidFill>
                <a:srgbClr val="000000"/>
              </a:solidFill>
              <a:latin typeface="Arial"/>
            </a:endParaRPr>
          </a:p>
          <a:p>
            <a:pPr lvl="2" marL="1279440" indent="-21240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zarządzanie kampaniami reklamowymi, </a:t>
            </a:r>
            <a:endParaRPr b="0" lang="en-US" sz="2400" spc="-1" strike="noStrike">
              <a:solidFill>
                <a:srgbClr val="000000"/>
              </a:solidFill>
              <a:latin typeface="Arial"/>
            </a:endParaRPr>
          </a:p>
          <a:p>
            <a:pPr lvl="2" marL="1279440" indent="-21240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zarządzanie klientami kluczowymi,</a:t>
            </a:r>
            <a:endParaRPr b="0" lang="en-US" sz="2400" spc="-1" strike="noStrike">
              <a:solidFill>
                <a:srgbClr val="000000"/>
              </a:solidFill>
              <a:latin typeface="Arial"/>
            </a:endParaRPr>
          </a:p>
          <a:p>
            <a:pPr lvl="2" marL="1279440" indent="-21240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zarządzanie promocjami,</a:t>
            </a:r>
            <a:endParaRPr b="0" lang="en-US" sz="2400" spc="-1" strike="noStrike">
              <a:solidFill>
                <a:srgbClr val="000000"/>
              </a:solidFill>
              <a:latin typeface="Arial"/>
            </a:endParaRPr>
          </a:p>
          <a:p>
            <a:pPr lvl="2" marL="1279440" indent="-21240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analiza danych, itd.</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7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zarządzania relacjami z klientem (CRM - Customer Relationships Management)</a:t>
            </a:r>
            <a:endParaRPr b="0" lang="en-US" sz="32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Przykładowe rozwiązania</a:t>
            </a:r>
            <a:endParaRPr b="0" lang="en-US" sz="2800" spc="-1" strike="noStrike">
              <a:solidFill>
                <a:srgbClr val="000000"/>
              </a:solidFill>
              <a:latin typeface="Arial"/>
            </a:endParaRPr>
          </a:p>
          <a:p>
            <a:pPr lvl="2" marL="1292400" indent="-21456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SugarCRM (opensource)</a:t>
            </a:r>
            <a:endParaRPr b="0" lang="en-US" sz="2400" spc="-1" strike="noStrike">
              <a:solidFill>
                <a:srgbClr val="000000"/>
              </a:solidFill>
              <a:latin typeface="Arial"/>
            </a:endParaRPr>
          </a:p>
          <a:p>
            <a:pPr lvl="2" marL="1292400" indent="-21456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Compiere CRM (opensource)</a:t>
            </a:r>
            <a:endParaRPr b="0" lang="en-US" sz="2400" spc="-1" strike="noStrike">
              <a:solidFill>
                <a:srgbClr val="000000"/>
              </a:solidFill>
              <a:latin typeface="Arial"/>
            </a:endParaRPr>
          </a:p>
          <a:p>
            <a:pPr lvl="2" marL="1292400" indent="-21456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XRMS CRM (opensource)</a:t>
            </a:r>
            <a:endParaRPr b="0" lang="en-US" sz="2400" spc="-1" strike="noStrike">
              <a:solidFill>
                <a:srgbClr val="000000"/>
              </a:solidFill>
              <a:latin typeface="Arial"/>
            </a:endParaRPr>
          </a:p>
          <a:p>
            <a:pPr lvl="2" marL="1292400" indent="-21456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i wiele innych komercyjnych</a:t>
            </a:r>
            <a:endParaRPr b="0" lang="en-US" sz="2400" spc="-1" strike="noStrike">
              <a:solidFill>
                <a:srgbClr val="000000"/>
              </a:solidFill>
              <a:latin typeface="Arial"/>
            </a:endParaRPr>
          </a:p>
          <a:p>
            <a:pPr lvl="2" marL="1292400" indent="-21456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praktycznie każdy system obsługi firmy handlowej posiada funkcjonalności CRM zaimplementowaną w mniejszym lub większym stopniu.</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77" name="PlaceHolder 2"/>
          <p:cNvSpPr>
            <a:spLocks noGrp="1"/>
          </p:cNvSpPr>
          <p:nvPr>
            <p:ph/>
          </p:nvPr>
        </p:nvSpPr>
        <p:spPr>
          <a:xfrm>
            <a:off x="468000" y="1411200"/>
            <a:ext cx="9070920" cy="581976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e-learningu</a:t>
            </a:r>
            <a:endParaRPr b="0" lang="en-US" sz="32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Zestaw technik komunikacyjnych i metod dydaktycznych pozwalających na prowadzenie efektywnego procesu nauczania z pominięciem bezpośredniego kontaktu z nauczycielem – trenerem. Ten sposób nauki rodzi wiele trudności wynikających przede wszystkim z konieczności odpowiedniego motywowania pracowników do tego rodzaju nauki. Firmy zwracają jednak uwagę na istotny stopień redukcji kosztów szkolenia (brak wyjazdów, delegacji, zakwaterowania, itp.) oraz elastyczność wykorzystania czasu pracy pracowników (nie opuszczają oni stanowiska pracy).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79" name="PlaceHolder 2"/>
          <p:cNvSpPr>
            <a:spLocks noGrp="1"/>
          </p:cNvSpPr>
          <p:nvPr>
            <p:ph/>
          </p:nvPr>
        </p:nvSpPr>
        <p:spPr>
          <a:xfrm>
            <a:off x="468000" y="141120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e-learningu</a:t>
            </a:r>
            <a:endParaRPr b="0" lang="en-US" sz="32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Narzędzia informatyczne są niezbędne do przeprowadzania tego typu szkoleń. Na szczególną uwagę zasługują tutaj techniki multimedialne (pozwalające uatrakcyjnić materiał szkoleniowy) oraz internet (pozwalający na szybki i efektywny kontakt z nauczycielem). Dla zarządzania jakością e-learning może mieć kluczowe znaczenie jako narzędzie sprzyjające realizacji kluczowej dla tych systemów zasady ciągłego doskonalenia i procesów rozwoju personelu.</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81" name="PlaceHolder 2"/>
          <p:cNvSpPr>
            <a:spLocks noGrp="1"/>
          </p:cNvSpPr>
          <p:nvPr>
            <p:ph/>
          </p:nvPr>
        </p:nvSpPr>
        <p:spPr>
          <a:xfrm>
            <a:off x="468000" y="141120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e-learningu</a:t>
            </a:r>
            <a:endParaRPr b="0" lang="en-US" sz="32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1" lang="fi-FI" sz="2800" spc="-1" strike="noStrike">
                <a:solidFill>
                  <a:srgbClr val="000000"/>
                </a:solidFill>
                <a:latin typeface="Arial"/>
              </a:rPr>
              <a:t>Najważniejsze funkcje</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zadania dla osób szkolonych,</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czat z moderatorem - prowadzącym kurs,</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forum dyskusyjne,</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słownik,</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lekcja,</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quiz,</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ankieta oceny, itp.</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83" name="PlaceHolder 2"/>
          <p:cNvSpPr>
            <a:spLocks noGrp="1"/>
          </p:cNvSpPr>
          <p:nvPr>
            <p:ph/>
          </p:nvPr>
        </p:nvSpPr>
        <p:spPr>
          <a:xfrm>
            <a:off x="468000" y="141120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e-learningu</a:t>
            </a:r>
            <a:endParaRPr b="0" lang="en-US" sz="32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1" lang="fi-FI" sz="2800" spc="-1" strike="noStrike">
                <a:solidFill>
                  <a:srgbClr val="000000"/>
                </a:solidFill>
                <a:latin typeface="Arial"/>
              </a:rPr>
              <a:t>Przykładowe rozwiązania</a:t>
            </a:r>
            <a:endParaRPr b="0" lang="en-US" sz="2800" spc="-1" strike="noStrike">
              <a:solidFill>
                <a:srgbClr val="000000"/>
              </a:solidFill>
              <a:latin typeface="Arial"/>
            </a:endParaRPr>
          </a:p>
          <a:p>
            <a:pPr lvl="2" marL="1292400" indent="-21456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moodle (opensource)</a:t>
            </a:r>
            <a:endParaRPr b="0" lang="en-US" sz="2400" spc="-1" strike="noStrike">
              <a:solidFill>
                <a:srgbClr val="000000"/>
              </a:solidFill>
              <a:latin typeface="Arial"/>
            </a:endParaRPr>
          </a:p>
          <a:p>
            <a:pPr lvl="2" marL="1292400" indent="-214560">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ww. sprawdzony w praktyce uczelnianej na UEK i UJ?, szczerze polecam, a innych proszę szukać w Google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85" name="PlaceHolder 2"/>
          <p:cNvSpPr>
            <a:spLocks noGrp="1"/>
          </p:cNvSpPr>
          <p:nvPr>
            <p:ph/>
          </p:nvPr>
        </p:nvSpPr>
        <p:spPr>
          <a:xfrm>
            <a:off x="468000" y="1411200"/>
            <a:ext cx="9070920" cy="5641920"/>
          </a:xfrm>
          <a:prstGeom prst="rect">
            <a:avLst/>
          </a:prstGeom>
          <a:noFill/>
          <a:ln w="0">
            <a:noFill/>
          </a:ln>
        </p:spPr>
        <p:txBody>
          <a:bodyPr lIns="0" rIns="0" tIns="28080" bIns="0" anchor="t">
            <a:normAutofit fontScale="99000"/>
          </a:bodyPr>
          <a:p>
            <a:pPr marL="424440" indent="-32076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graficznego modelowania procesów - UML</a:t>
            </a:r>
            <a:endParaRPr b="0" lang="en-US" sz="3200" spc="-1" strike="noStrike">
              <a:solidFill>
                <a:srgbClr val="000000"/>
              </a:solidFill>
              <a:latin typeface="Arial"/>
            </a:endParaRPr>
          </a:p>
          <a:p>
            <a:pPr lvl="2" marL="1279440" indent="-212400" algn="just">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Otwarty format UML (ang. Unified Modeling Language, czyli Zunifikowany Język Modelowania) – jest to język formalny służący do opisu świata obiektów w dowolnym analizowanym systemie</a:t>
            </a:r>
            <a:endParaRPr b="0" lang="en-US" sz="2400" spc="-1" strike="noStrike">
              <a:solidFill>
                <a:srgbClr val="000000"/>
              </a:solidFill>
              <a:latin typeface="Arial"/>
            </a:endParaRPr>
          </a:p>
          <a:p>
            <a:pPr lvl="2" marL="1279440" indent="-212400" algn="just">
              <a:lnSpc>
                <a:spcPct val="93000"/>
              </a:lnSpc>
              <a:spcAft>
                <a:spcPts val="850"/>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Służy do modelowania dziedziny problemu (opisywania-modelowania fragmentu istniejącej rzeczywistości – na przykład modelowanie procesów realizowanych w firmie) w przypadku stosowania go do analizy oraz do modelowania rzeczywistości, która ma dopiero powstać – tworzy się w nim głównie modele systemów informatycznych. UML jest głównie używany wraz z jego reprezentacją graficzną – jego elementom przypisane są symbole, które wiązane są ze sobą na diagramach.</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pic>
        <p:nvPicPr>
          <p:cNvPr id="87" name="" descr=""/>
          <p:cNvPicPr/>
          <p:nvPr/>
        </p:nvPicPr>
        <p:blipFill>
          <a:blip r:embed="rId2"/>
          <a:stretch/>
        </p:blipFill>
        <p:spPr>
          <a:xfrm>
            <a:off x="179280" y="1260360"/>
            <a:ext cx="9694800" cy="5940720"/>
          </a:xfrm>
          <a:prstGeom prst="rect">
            <a:avLst/>
          </a:prstGeom>
          <a:ln w="0">
            <a:noFill/>
          </a:ln>
        </p:spPr>
      </p:pic>
      <p:sp>
        <p:nvSpPr>
          <p:cNvPr id="88" name=""/>
          <p:cNvSpPr/>
          <p:nvPr/>
        </p:nvSpPr>
        <p:spPr>
          <a:xfrm>
            <a:off x="7020000" y="7199280"/>
            <a:ext cx="19429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1800" spc="-1" strike="noStrike">
                <a:solidFill>
                  <a:srgbClr val="000000"/>
                </a:solidFill>
                <a:latin typeface="Arial"/>
              </a:rPr>
              <a:t>Źródło: Wikipedia</a:t>
            </a:r>
            <a:endParaRPr b="0" lang="en-US" sz="1800" spc="-1" strike="noStrike">
              <a:solidFill>
                <a:srgbClr val="000000"/>
              </a:solidFill>
              <a:latin typeface="Arial"/>
            </a:endParaRPr>
          </a:p>
        </p:txBody>
      </p:sp>
      <p:sp>
        <p:nvSpPr>
          <p:cNvPr id="89" name=""/>
          <p:cNvSpPr/>
          <p:nvPr/>
        </p:nvSpPr>
        <p:spPr>
          <a:xfrm>
            <a:off x="2340000" y="4680000"/>
            <a:ext cx="360360" cy="426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53"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u="sng">
                <a:solidFill>
                  <a:srgbClr val="ccccff"/>
                </a:solidFill>
                <a:uFillTx/>
                <a:latin typeface="Arial"/>
                <a:hlinkClick r:id="rId2"/>
              </a:rPr>
              <a:t>Zarządzanie dokumentami</a:t>
            </a:r>
            <a:r>
              <a:rPr b="0" lang="fi-FI" sz="3200" spc="-1" strike="noStrike">
                <a:solidFill>
                  <a:srgbClr val="000000"/>
                </a:solidFill>
                <a:latin typeface="Arial"/>
              </a:rPr>
              <a:t> (DMS - Document Management System)</a:t>
            </a:r>
            <a:endParaRPr b="0" lang="en-US" sz="3200" spc="-1" strike="noStrike">
              <a:solidFill>
                <a:srgbClr val="000000"/>
              </a:solidFill>
              <a:latin typeface="Arial"/>
            </a:endParaRPr>
          </a:p>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Zbiór narzędzi poprawiających efektywność przetwarzania wszelkich form dokumentów powstających w organizacjach. Od dokumentów wewnętrznych dotyczących współpracy różnych obszarów funkcjonalnych organizacji, po dokumenty napływające z otoczenia (np. zamówienia od klientów, faktury, listy, i inne.). W zakresie zarządzania jakością systemy te w szczególny sposób wspomagają procesy: nadzoru nad dokumentacją i zapisami, procesy przeglądów kierownictwa, audytów, itp. Informatyczne rozwiązania w dziedzinie zarządzania dokumentami są już w fazie dojrzałości, są od dłuższego czasu obecne na rynku.</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91" name="PlaceHolder 2"/>
          <p:cNvSpPr>
            <a:spLocks noGrp="1"/>
          </p:cNvSpPr>
          <p:nvPr>
            <p:ph/>
          </p:nvPr>
        </p:nvSpPr>
        <p:spPr>
          <a:xfrm>
            <a:off x="468000" y="141120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graficznego modelowania procesów - UML</a:t>
            </a:r>
            <a:endParaRPr b="0" lang="en-US" sz="3200" spc="-1" strike="noStrike">
              <a:solidFill>
                <a:srgbClr val="000000"/>
              </a:solidFill>
              <a:latin typeface="Arial"/>
            </a:endParaRPr>
          </a:p>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Rodzaje diagramów UML:</a:t>
            </a:r>
            <a:endParaRPr b="0" lang="en-US" sz="32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 </a:t>
            </a:r>
            <a:r>
              <a:rPr b="0" lang="fi-FI" sz="2800" spc="-1" strike="noStrike">
                <a:solidFill>
                  <a:srgbClr val="000000"/>
                </a:solidFill>
                <a:latin typeface="Arial"/>
              </a:rPr>
              <a:t>Diagramy struktur: klas, obiektów, komponentów, pakietów, struktur złożonych,</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Diagramy zachowań: czynności, przypadków użycia, stanów, interakcji, komunikacji, współdziałania, sekwencji, czasowe.</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93" name="PlaceHolder 2"/>
          <p:cNvSpPr>
            <a:spLocks noGrp="1"/>
          </p:cNvSpPr>
          <p:nvPr>
            <p:ph/>
          </p:nvPr>
        </p:nvSpPr>
        <p:spPr>
          <a:xfrm>
            <a:off x="468000" y="141120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graficznego modelowania procesów - UML</a:t>
            </a:r>
            <a:endParaRPr b="0" lang="en-US" sz="3200" spc="-1" strike="noStrike">
              <a:solidFill>
                <a:srgbClr val="000000"/>
              </a:solidFill>
              <a:latin typeface="Arial"/>
            </a:endParaRPr>
          </a:p>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Narzędzia:</a:t>
            </a:r>
            <a:endParaRPr b="0" lang="en-US" sz="32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Umbrello (open source)</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IBM Rational,</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Visio,</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Aris Platform,</a:t>
            </a:r>
            <a:endParaRPr b="0" lang="en-US" sz="28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każdy inny program graficzny</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9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informacyjne laboratoriów pomiarowych (QLS, LIMS - Laboratory Information and Management Systems)</a:t>
            </a:r>
            <a:endParaRPr b="0" lang="en-US" sz="3200" spc="-1" strike="noStrike">
              <a:solidFill>
                <a:srgbClr val="000000"/>
              </a:solidFill>
              <a:latin typeface="Arial"/>
            </a:endParaRPr>
          </a:p>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Znajdują zastosowanie w szczególności w obszarach regulowanych przez normy HACCP, GHP, GMP, GAP itp. i innymi, gdzie jakość prodktu wpływa na bezpieczeństwo człowieka. (branża spożywcza, farmaceutyczna, itp.)</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97"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Funkcjonalność systemów LIMS:</a:t>
            </a:r>
            <a:endParaRPr b="0" lang="en-US" sz="32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planowanie testów i audytów, zarządzanie narzędziami stosowanymi w testach, badania i rozwój w obszarze badań labolatorycjnych, zarządzanie projektami i dokumentacją, przyjmowanie materiałów, ocena dostawców, kontrola produkcji i automatyczne pobieranie próbek, obsługa decyzji zwolnienia i autoryzacji, ostateczna kontrola i zwalnianie produktów, certyfikacja i raportowanie, badanie stabilności wyników testów,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9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Funkcjonalność systemów LIMS cd.:</a:t>
            </a:r>
            <a:endParaRPr b="0" lang="en-US" sz="32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800" spc="-1" strike="noStrike">
                <a:solidFill>
                  <a:srgbClr val="000000"/>
                </a:solidFill>
                <a:latin typeface="Arial"/>
              </a:rPr>
              <a:t>... śledzenie partii towaru i zarządzanie procesem wycofywania partii z rynku, sprzężenie zwrotne - raportowanie błędów dla celów produkcji i optymalizacji testów, przetwarzanie próbek w labolatorium, przetwarzanie wyników pomiarów, obliczenia wskaźników, monitorowanie zgłoszeń testowych, integracja z czytnikami kodów kreskowych lub innymi systemami identyfikacji (RFID, itp.), integracja online z urządzeniami pomiarowymi, archiwizacja danych pomiarowych</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101"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i-FI" sz="3200" spc="-1" strike="noStrike">
                <a:solidFill>
                  <a:srgbClr val="000000"/>
                </a:solidFill>
                <a:latin typeface="Arial"/>
              </a:rPr>
              <a:t>Dziękuję za uwagę</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5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Zarządzanie dokumentami (DMS - Document Management System)</a:t>
            </a:r>
            <a:endParaRPr b="0" lang="en-US" sz="3200" spc="-1" strike="noStrike">
              <a:solidFill>
                <a:srgbClr val="000000"/>
              </a:solidFill>
              <a:latin typeface="Arial"/>
            </a:endParaRPr>
          </a:p>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Wiele organizacji z nich korzysta uzyskując pozytywne efekty ekonomiczne i organizacyjne. Na szczególną uwagę w zakresie zarządzania dokumentami zasługuje wzrost popularności narzędzi OCR (Optical Character Recognition) przetwarzających dokumenty z formy papierowej (graficznej) w formę tekstową dającą się w prosty sposób indeksować i zapisywać we wszelkiego rodzaju komputerowych bazach danych. </a:t>
            </a:r>
            <a:endParaRPr b="0" lang="en-US" sz="2400" spc="-1" strike="noStrike">
              <a:solidFill>
                <a:srgbClr val="000000"/>
              </a:solidFill>
              <a:latin typeface="Arial"/>
            </a:endParaRPr>
          </a:p>
          <a:p>
            <a:pPr marL="430200" indent="0">
              <a:lnSpc>
                <a:spcPct val="93000"/>
              </a:lnSpc>
              <a:spcAft>
                <a:spcPts val="1426"/>
              </a:spcAft>
              <a:buNone/>
              <a:tabLst>
                <a:tab algn="l" pos="0"/>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57" name="PlaceHolder 2"/>
          <p:cNvSpPr>
            <a:spLocks noGrp="1"/>
          </p:cNvSpPr>
          <p:nvPr>
            <p:ph/>
          </p:nvPr>
        </p:nvSpPr>
        <p:spPr>
          <a:xfrm>
            <a:off x="502920" y="1767960"/>
            <a:ext cx="9070920" cy="5365800"/>
          </a:xfrm>
          <a:prstGeom prst="rect">
            <a:avLst/>
          </a:prstGeom>
          <a:noFill/>
          <a:ln w="0">
            <a:noFill/>
          </a:ln>
        </p:spPr>
        <p:txBody>
          <a:bodyPr lIns="0" rIns="0" tIns="28080" bIns="0" anchor="t">
            <a:normAutofit fontScale="99000"/>
          </a:bodyPr>
          <a:p>
            <a:pPr marL="424440" indent="-32076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Zarządzanie dokumentami (DMS - Document Management System)</a:t>
            </a:r>
            <a:endParaRPr b="0" lang="en-US" sz="3200" spc="-1" strike="noStrike">
              <a:solidFill>
                <a:srgbClr val="000000"/>
              </a:solidFill>
              <a:latin typeface="Arial"/>
            </a:endParaRPr>
          </a:p>
          <a:p>
            <a:pPr marL="424440" indent="-32076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Najważniejsze funkcje:</a:t>
            </a:r>
            <a:endParaRPr b="0" lang="en-US" sz="24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rejestrowanie dokumentów przychodzących,</a:t>
            </a:r>
            <a:endParaRPr b="0" lang="en-US" sz="24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porządkowanie, klasyfikacja,</a:t>
            </a:r>
            <a:endParaRPr b="0" lang="en-US" sz="24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zarządzanie wersjami dokumentów,</a:t>
            </a:r>
            <a:endParaRPr b="0" lang="en-US" sz="24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zarządzanie sposobami (zasadami) obiegu dokumentów,</a:t>
            </a:r>
            <a:endParaRPr b="0" lang="en-US" sz="24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archiwizacja dokumentów,</a:t>
            </a:r>
            <a:endParaRPr b="0" lang="en-US" sz="24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powiadamianie użytkowników lub grup o zmianach,</a:t>
            </a:r>
            <a:endParaRPr b="0" lang="en-US" sz="24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przenoszenie, wysyłanie w obieg, usuwanie, itd.</a:t>
            </a:r>
            <a:endParaRPr b="0" lang="en-US" sz="24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5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Zarządzanie dokumentami (DMS - Document Management System)</a:t>
            </a:r>
            <a:endParaRPr b="0" lang="en-US" sz="3200" spc="-1" strike="noStrike">
              <a:solidFill>
                <a:srgbClr val="000000"/>
              </a:solidFill>
              <a:latin typeface="Arial"/>
            </a:endParaRPr>
          </a:p>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Przykładowe aplikacje</a:t>
            </a:r>
            <a:endParaRPr b="0" lang="en-US" sz="24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OWL - Knowledgebase (opensource),</a:t>
            </a:r>
            <a:endParaRPr b="0" lang="en-US" sz="24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KnowledgeTree (opensource),</a:t>
            </a:r>
            <a:endParaRPr b="0" lang="en-US" sz="24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Xerox Docushare (komercyjny),</a:t>
            </a:r>
            <a:endParaRPr b="0" lang="en-US" sz="24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 i wiele innych (można poszukać w Google ;-)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61" name="PlaceHolder 2"/>
          <p:cNvSpPr>
            <a:spLocks noGrp="1"/>
          </p:cNvSpPr>
          <p:nvPr>
            <p:ph/>
          </p:nvPr>
        </p:nvSpPr>
        <p:spPr>
          <a:xfrm>
            <a:off x="502920" y="1768320"/>
            <a:ext cx="9070920" cy="5080320"/>
          </a:xfrm>
          <a:prstGeom prst="rect">
            <a:avLst/>
          </a:prstGeom>
          <a:noFill/>
          <a:ln w="0">
            <a:noFill/>
          </a:ln>
        </p:spPr>
        <p:txBody>
          <a:bodyPr lIns="0" rIns="0" tIns="28080" bIns="0" anchor="t">
            <a:normAutofit fontScale="99000"/>
          </a:bodyPr>
          <a:p>
            <a:pPr marL="424440" indent="-32076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Bazy wiedzy (Knowledge bases)</a:t>
            </a:r>
            <a:endParaRPr b="0" lang="en-US" sz="3200" spc="-1" strike="noStrike">
              <a:solidFill>
                <a:srgbClr val="000000"/>
              </a:solidFill>
              <a:latin typeface="Arial"/>
            </a:endParaRPr>
          </a:p>
          <a:p>
            <a:pPr marL="424440" indent="-32076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Jest to powszechnie przyjęta nazwa dla informatycznego narzędzia wspomagającego pracę pracowników pomocy technicznej (i nie tylko) różnego rodzaju przedsiębiorstw. Baza wiedzy stanowi swoisty rejestr problemów zgłaszanych przez klientów firmy (użytkowników jej produktów) bądź pracowników oraz zapis procedur ich rozwiązywania lub ewentualnie zniwelowania szkodliwych jego skutków. Rozwój baz wiedzy i efektywność ich stosowania spowodował, że wiele firm umożliwiło dostęp do baz wiedzy klientom na zasadzie „samoobsługi” przez internet, spowodowało to drastyczne zmniejszenie kontaktów klientów z działem pomocy technicznej, gdyż większość problemów klient rozwiązywał samodzielnie korzystając z pomocy uzyskanej w bazach wiedzy.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63" name="PlaceHolder 2"/>
          <p:cNvSpPr>
            <a:spLocks noGrp="1"/>
          </p:cNvSpPr>
          <p:nvPr>
            <p:ph/>
          </p:nvPr>
        </p:nvSpPr>
        <p:spPr>
          <a:xfrm>
            <a:off x="502920" y="1768320"/>
            <a:ext cx="9070920" cy="5051520"/>
          </a:xfrm>
          <a:prstGeom prst="rect">
            <a:avLst/>
          </a:prstGeom>
          <a:noFill/>
          <a:ln w="0">
            <a:noFill/>
          </a:ln>
        </p:spPr>
        <p:txBody>
          <a:bodyPr lIns="0" rIns="0" tIns="28080" bIns="0" anchor="t">
            <a:normAutofit fontScale="99000"/>
          </a:bodyPr>
          <a:p>
            <a:pPr marL="424440" indent="-32076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u="sng">
                <a:solidFill>
                  <a:srgbClr val="ccccff"/>
                </a:solidFill>
                <a:uFillTx/>
                <a:latin typeface="Arial"/>
                <a:hlinkClick r:id="rId2"/>
              </a:rPr>
              <a:t>Bazy wiedzy</a:t>
            </a:r>
            <a:r>
              <a:rPr b="0" lang="fi-FI" sz="3200" spc="-1" strike="noStrike">
                <a:solidFill>
                  <a:srgbClr val="000000"/>
                </a:solidFill>
                <a:latin typeface="Arial"/>
              </a:rPr>
              <a:t> (Knowledge bases)</a:t>
            </a:r>
            <a:endParaRPr b="0" lang="en-US" sz="3200" spc="-1" strike="noStrike">
              <a:solidFill>
                <a:srgbClr val="000000"/>
              </a:solidFill>
              <a:latin typeface="Arial"/>
            </a:endParaRPr>
          </a:p>
          <a:p>
            <a:pPr marL="424440" indent="-32076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W zakresie zarządzania jakością, bazy wiedzy mogą wspomagać procedury kontatu z klientem, procedury działań korygujących i zapobiegawczych. Są one bardzo ściśle związane z systemami obiegu dokumentów, dlatego niejednokrotnie są one oferowane jako jeden produkt.</a:t>
            </a:r>
            <a:endParaRPr b="0" lang="en-US" sz="2400" spc="-1" strike="noStrike">
              <a:solidFill>
                <a:srgbClr val="000000"/>
              </a:solidFill>
              <a:latin typeface="Arial"/>
            </a:endParaRPr>
          </a:p>
          <a:p>
            <a:pPr marL="424440" indent="-32076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Najważniejsze funkcje:</a:t>
            </a:r>
            <a:endParaRPr b="0" lang="en-US" sz="24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przechowywanie informacji o działaniach niezbędnych do rozwiązania problemu,</a:t>
            </a:r>
            <a:endParaRPr b="0" lang="en-US" sz="24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szybkie wyszukiwanie potrzebnych procedur,</a:t>
            </a:r>
            <a:endParaRPr b="0" lang="en-US" sz="2400" spc="-1" strike="noStrike">
              <a:solidFill>
                <a:srgbClr val="000000"/>
              </a:solidFill>
              <a:latin typeface="Arial"/>
            </a:endParaRPr>
          </a:p>
          <a:p>
            <a:pPr lvl="1" marL="851760" indent="-28296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możliwość rozwijania informacji w niej zawartych przez wszystkich pracowników, i i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65" name="PlaceHolder 2"/>
          <p:cNvSpPr>
            <a:spLocks noGrp="1"/>
          </p:cNvSpPr>
          <p:nvPr>
            <p:ph/>
          </p:nvPr>
        </p:nvSpPr>
        <p:spPr>
          <a:xfrm>
            <a:off x="468000" y="1370160"/>
            <a:ext cx="9070920" cy="5533920"/>
          </a:xfrm>
          <a:prstGeom prst="rect">
            <a:avLst/>
          </a:prstGeom>
          <a:noFill/>
          <a:ln w="0">
            <a:noFill/>
          </a:ln>
        </p:spPr>
        <p:txBody>
          <a:bodyPr lIns="0" rIns="0" tIns="28080" bIns="0" anchor="t">
            <a:normAutofit fontScale="99000"/>
          </a:bodyPr>
          <a:p>
            <a:pPr marL="424440" indent="-32076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zarządzania treściami (CMS - Content management systems)</a:t>
            </a:r>
            <a:endParaRPr b="0" lang="en-US" sz="3200" spc="-1" strike="noStrike">
              <a:solidFill>
                <a:srgbClr val="000000"/>
              </a:solidFill>
              <a:latin typeface="Arial"/>
            </a:endParaRPr>
          </a:p>
          <a:p>
            <a:pPr marL="424440" indent="-32076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Zestaw narzędzi będący rozwinięciem systemów zarządzania dokumentami. Funkcje systemów informatycznych w zakresie zarządzania treściami obejmują swym zakresem wspomaganie użytkownika przy wprowadzaniu różnorakich treści do systemu, ich organizowanie i klasyfikację, ocenę, oraz prezentację. Ich zaletą jest skrócenie czasu potrzebnego na wyszukanie i dostęp do pożądanej kategorii informacji. Inną cechą systemów zarządzania treścią jest umożliwienie grupowej pracy nad dokumentami, wspomagając wymianę poglądów na dany temat, umożliwiając przeglądanie różnych wersji dokumentu, itp. Zarządzanie treściami wspomaga przede wszystkim funkcje analizy procesów i przygotowania dokumentacji, ale także rozpowszechniania dokumentacji systemu jakości w organizacji</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4400" spc="-1" strike="noStrike">
                <a:solidFill>
                  <a:srgbClr val="ffffff"/>
                </a:solidFill>
                <a:latin typeface="Arial"/>
              </a:rPr>
              <a:t>Systemy Informacji jakościowej</a:t>
            </a:r>
            <a:endParaRPr b="1" lang="en-US" sz="4400" spc="-1" strike="noStrike">
              <a:solidFill>
                <a:srgbClr val="ffffff"/>
              </a:solidFill>
              <a:latin typeface="Arial"/>
            </a:endParaRPr>
          </a:p>
        </p:txBody>
      </p:sp>
      <p:sp>
        <p:nvSpPr>
          <p:cNvPr id="67" name="PlaceHolder 2"/>
          <p:cNvSpPr>
            <a:spLocks noGrp="1"/>
          </p:cNvSpPr>
          <p:nvPr>
            <p:ph/>
          </p:nvPr>
        </p:nvSpPr>
        <p:spPr>
          <a:xfrm>
            <a:off x="468000" y="1369800"/>
            <a:ext cx="9070920" cy="4989240"/>
          </a:xfrm>
          <a:prstGeom prst="rect">
            <a:avLst/>
          </a:prstGeom>
          <a:noFill/>
          <a:ln w="0">
            <a:noFill/>
          </a:ln>
        </p:spPr>
        <p:txBody>
          <a:bodyPr lIns="0" rIns="0" tIns="28080" bIns="0" anchor="t">
            <a:normAutofit/>
          </a:bodyPr>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3200" spc="-1" strike="noStrike">
                <a:solidFill>
                  <a:srgbClr val="000000"/>
                </a:solidFill>
                <a:latin typeface="Arial"/>
              </a:rPr>
              <a:t>Systemy zarządzania treściami (CMS - Content management systems)</a:t>
            </a:r>
            <a:endParaRPr b="0" lang="en-US" sz="3200" spc="-1" strike="noStrike">
              <a:solidFill>
                <a:srgbClr val="000000"/>
              </a:solidFill>
              <a:latin typeface="Arial"/>
            </a:endParaRPr>
          </a:p>
          <a:p>
            <a:pPr marL="428760" indent="-324000">
              <a:lnSpc>
                <a:spcPct val="93000"/>
              </a:lnSpc>
              <a:spcAft>
                <a:spcPts val="1426"/>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Przykładowe systemy</a:t>
            </a:r>
            <a:endParaRPr b="0" lang="en-US" sz="24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MediaWiki,</a:t>
            </a:r>
            <a:endParaRPr b="0" lang="en-US" sz="24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Joomla,</a:t>
            </a:r>
            <a:endParaRPr b="0" lang="en-US" sz="24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TikiWiki,</a:t>
            </a:r>
            <a:endParaRPr b="0" lang="en-US" sz="24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Drupal, </a:t>
            </a:r>
            <a:endParaRPr b="0" lang="en-US" sz="24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wszystkie ww. OpenSource</a:t>
            </a:r>
            <a:endParaRPr b="0" lang="en-US" sz="2400" spc="-1" strike="noStrike">
              <a:solidFill>
                <a:srgbClr val="000000"/>
              </a:solidFill>
              <a:latin typeface="Arial"/>
            </a:endParaRPr>
          </a:p>
          <a:p>
            <a:pPr lvl="1" marL="860400" indent="-285840">
              <a:lnSpc>
                <a:spcPct val="93000"/>
              </a:lnSpc>
              <a:spcAft>
                <a:spcPts val="1137"/>
              </a:spcAft>
              <a:buClr>
                <a:srgbClr val="ff6309"/>
              </a:buClr>
              <a:buSzPct val="45000"/>
              <a:buFont typeface="Wingdings" charset="2"/>
              <a:buChar char=""/>
              <a:tabLst>
                <a:tab algn="l" pos="428760"/>
                <a:tab algn="l" pos="533520"/>
                <a:tab algn="l" pos="982800"/>
                <a:tab algn="l" pos="1432080"/>
                <a:tab algn="l" pos="1881360"/>
                <a:tab algn="l" pos="2330280"/>
                <a:tab algn="l" pos="2779560"/>
                <a:tab algn="l" pos="3228840"/>
                <a:tab algn="l" pos="3678120"/>
                <a:tab algn="l" pos="4127400"/>
                <a:tab algn="l" pos="4576680"/>
                <a:tab algn="l" pos="5025960"/>
                <a:tab algn="l" pos="5475240"/>
                <a:tab algn="l" pos="5924520"/>
                <a:tab algn="l" pos="6373800"/>
                <a:tab algn="l" pos="6823080"/>
                <a:tab algn="l" pos="7272360"/>
                <a:tab algn="l" pos="7721640"/>
                <a:tab algn="l" pos="8170920"/>
                <a:tab algn="l" pos="8620200"/>
                <a:tab algn="l" pos="9069480"/>
                <a:tab algn="l" pos="9434520"/>
                <a:tab algn="l" pos="9883800"/>
                <a:tab algn="l" pos="10333080"/>
                <a:tab algn="l" pos="10782360"/>
              </a:tabLst>
            </a:pPr>
            <a:r>
              <a:rPr b="0" lang="fi-FI" sz="2400" spc="-1" strike="noStrike">
                <a:solidFill>
                  <a:srgbClr val="000000"/>
                </a:solidFill>
                <a:latin typeface="Arial"/>
              </a:rPr>
              <a:t>i wiele innych -&gt; Google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1:16:01Z</dcterms:created>
  <dc:creator/>
  <dc:description/>
  <dc:language>en-US</dc:language>
  <cp:lastModifiedBy>Krzysztof Woźniak</cp:lastModifiedBy>
  <dcterms:modified xsi:type="dcterms:W3CDTF">2016-11-20T14:05:57Z</dcterms:modified>
  <cp:revision>9</cp:revision>
  <dc:subject/>
  <dc:title/>
</cp:coreProperties>
</file>