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03129-E252-437F-BB89-7B709F7E7CB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A71-CF08-415E-9520-07AC3A15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120-9FF2-45EF-B814-5B783A8E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D8C-2E48-4ACC-B628-6903F797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216-ECE8-4145-B173-34C0C574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0FD-B6B9-4F2C-9376-75F08A93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773-DB8D-4941-9C80-080CA2F6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757-2120-487E-913A-75B9EDE6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103-F143-4611-992F-57A34E1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322-FF0C-4BA2-BA81-16A676D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29B-B8F0-451B-8C3E-F77131C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64F-18F3-43AF-9C4B-102B1AB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660-26A3-4C96-ABE7-D7A7BEC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9851-D349-428E-9381-8A47ABC3301E}" type="slidenum">
              <a:rPr b="0" lang="fi-FI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Wykł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Informacji Jakości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700" spc="-1" strike="noStrike">
                <a:solidFill>
                  <a:srgbClr val="000000"/>
                </a:solidFill>
                <a:latin typeface="Arial"/>
              </a:rPr>
              <a:t>Krzysztof Woźni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1700" spc="-1" strike="noStrike">
                <a:solidFill>
                  <a:srgbClr val="000000"/>
                </a:solidFill>
                <a:latin typeface="Arial"/>
              </a:rPr>
              <a:t>Uniwersytet Ekonomiczny w Krakow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Klasyczne systemy informa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transakcyjne (rejestracja danych gospodarczy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informowania kierownictwa (analiza zgromadzonych danych i prezentacja wynikó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wspomagania decyzji (przewidywanie efektów decyzji, symulac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eksperckie (sztuczna inteligencja, diagnoza przyczyn problemów organizacyjny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Klasyczne systemy informa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finansowo-księg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kadrowo-płac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wspomagania produkcji (np. MRP, MRP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wspomagania sprzedaży (np. C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log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spomaganie prac biur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y zintegrowane (E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8720" y="1260360"/>
            <a:ext cx="907092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System informacji jakości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ystem informacji jakościowej to układ, który tworzą z jednej strony zasoby i potrzeby informacyjne pracowników oraz kierowników, związane z realizowanymi procesami, z drugiej zaś podsystem komunikacji wewnętrznej i zewnętrznej. Charakteryzuje się on następującymi cech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pełnia funkcje identyfikacyjne i diagnostycz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jego zasoby informacyjne są tematycznie odniesione do różnych dziedzin funkcjonowania przedsiębiorstwa (np. finansów, zasobów ludzkich, produk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oże być częścią struktury organizacyjnej przedsiębiorstwa jako pion informacji lub dział (sekcja), ale może również funkcjonować w układzie rozproszony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9070920" cy="59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Zadania systemu informacyj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dostarczenie informacji niezbędnych do podejmowania decyzji i realizacji procesów głównych, pomocnicznych i administracyj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zapewnienie współdziałania systemu zarządzania i układu wykonawcz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możliwienie sprawnego komunikowania się między pracownika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zybkie reagowanie na zmiany w funkcjonowaniu firmy i otoczenia oraz podejmowanie działań korygując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sprawnienie procesów badawczo-rozwojowych i doskonalących procesy organizacyj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rzyczynianie się do utrwalania zasobów wiedzy organizacyjnej jako kluczowego zasobu przedsiębiorst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Struktura systemu informacyj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1. Cele działalności informacyj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lanowanie działalności informacyj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ityka inform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rganizacja zespoł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fektywność działalności informacyj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2. Sfera podmiot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ystem zarządzania i system wykonawcz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alizowane procesy produkcyjne i usługo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żytkownicy systemu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trzeby informacyjne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mpetencje pracownikó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477800"/>
            <a:ext cx="90709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3. Pragmatyka systemu informacyj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zarządzanie informacj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tanowiska pracy odpowiedzialne za informacje (dział analiz, archiwum, it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gulamin organizacyjny, proced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rmy ISO i i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ezpieczeństwo system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awna ochrona informacji, prawo autorskie,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778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4. Procesy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unkcje pracowników w zakresie przetwarzania, gromadzenia, analizy i udostępniania informacj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munikacja organizacyj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spomaganie zarządzania organizacj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47744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5. Metodyki analizy i projektow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adanie informacji jakości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todyka projektowania procesów informacyj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todyka generowania przekazów informacyj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zarządzanie projektami informatyczny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etodyka diagnozy systemu informacyjnego, i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Miejsce informacji w systemie zarządzania jakości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Zagadnie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dstawowe poję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ola informacji w zarządz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iejsce informacji w systemie zarządzania jakości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mputerowe wspomaganie systemu zarządzania jakością opartego normę ISO 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Dane -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akty, liczby, spostrzeżenia, zapis rzeczywistoś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Informacja -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ane przetworzone, poddane analizie, grupowaniu, prezent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Wiedza -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wstaje w umyśle kierownika w procesie interpretacji otrzymanych inform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1440000"/>
            <a:ext cx="431964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dpowiednie informacje są niezbędne do realizacji wszystkich procesów w organizacji, w tym także procesów zarządzania jakości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akość informacji wpływają na efektywność podejmowanych decyzji oraz spełnianie wymagań kli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iedobór informacji może doprowadzić do problemów (niezgodności) i uniemożliwić spełnienie wymagań klienta i osiąganie celów organiz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260360"/>
            <a:ext cx="9070920" cy="596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Jakość informacji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- zgodność z rzeczywistością, dokładność, forma prezent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Aktualność informacji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- jest zależna od sytuacji i potrzeb pracowników, związana jest z czasem który upływa od wystąpienia zjawiska do otrzymania na jego temat inform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Ilość informacji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nadmiar informacji może być problemem dla kier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Odpowiedniość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- dopasowanie informacji do specyficznych potrzeb danego stanowiska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Koszt informacji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- wydatki związane z pozyskaniem, przechowywaniem i analizowaniem informacj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Wartość informacji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wpływ jaki informacja wywiera na podejmowane decyzje i doskonalenie organiz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Informacje na poziomie operacyj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Źródła: głównie wewnętr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Zakres: ściśle określony, wą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topień agregacji: szczegół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oryzont czasu: przeszł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ktualność: znacz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okładność: du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zęstotliwość wykorzystania: bardzo du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ystemy Informacji jakościowej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Informacje na poziomie strategicz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Źródła: głównie zewnętr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Zakres: bardzo szero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topień agregacji: zagregow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oryzont czasu: przyszł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ktualność: niewi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okładność: mał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zęstotliwość wykorzystania: mał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1:16:01Z</dcterms:created>
  <dc:creator/>
  <dc:description/>
  <dc:language>en-US</dc:language>
  <cp:lastModifiedBy>Krzysztof Woźniak</cp:lastModifiedBy>
  <dcterms:modified xsi:type="dcterms:W3CDTF">2016-11-06T14:05:23Z</dcterms:modified>
  <cp:revision>5</cp:revision>
  <dc:subject/>
  <dc:title/>
</cp:coreProperties>
</file>