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9E27-7444-4324-8D88-BBD39A6FA52A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Calibri"/>
              </a:rPr>
              <a:t>Figure 1: Clinical improvement with rituxim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Pre-treatment  b. Complete cutaneous remission at 14 weeks  c. Pre-treatment in another patient  d. Complete cutaneous remission at 14 w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437B-1BC0-4C91-81D9-B4E0891BBDED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793-14B5-4DD8-9496-E53A1A56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E0D-ED72-4867-8FAA-6D690003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E36-4987-4BCF-BE04-416F8C27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AA5-89D5-4EAC-B72A-06590562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96C-35BE-4A39-B4E8-2364B80A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1DC-6FFD-4FE8-9C1D-959F2D67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2FA-6827-4EAB-B1FD-E0372361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198-3F4D-4BFA-B046-ACEBA4EF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27E-EF3A-4498-8DA3-3B3CEB55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D61-157E-4B8A-A7B3-C620ADD8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9E6-75F6-4ADB-8BD0-AB2348E9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CD2-40F3-4EA5-A6F8-BE92C26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CF22-3BB7-4717-9198-3A54A1D86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57600" cy="362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350856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373356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3505320" cy="2502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687960" y="2286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4269600" y="2286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12360" y="373392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4269600" y="3809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7T15:42:01Z</dcterms:created>
  <dc:creator>abc</dc:creator>
  <dc:description/>
  <dc:language>en-US</dc:language>
  <cp:lastModifiedBy>Magdalena Muehlemann</cp:lastModifiedBy>
  <dcterms:modified xsi:type="dcterms:W3CDTF">2016-07-06T07:35:05Z</dcterms:modified>
  <cp:revision>3</cp:revision>
  <dc:subject/>
  <dc:title>Slide 1</dc:title>
</cp:coreProperties>
</file>