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97234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6031-D241-49DB-A9E4-3E8D31A8C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823104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5619600"/>
            <a:ext cx="823104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258C-8011-4797-89D2-CC3CDFDD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226836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561960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561960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A989-5532-4D75-8243-9FC520A53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26503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2268360"/>
            <a:ext cx="26503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2268360"/>
            <a:ext cx="26503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5619600"/>
            <a:ext cx="26503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5619600"/>
            <a:ext cx="26503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5619600"/>
            <a:ext cx="26503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37CB-EF5C-450F-A28C-DD49D03D5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268360"/>
            <a:ext cx="8231040" cy="64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AB6C-206E-4375-A3B1-842FA3DF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823104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C513-AE74-49D3-99DE-0A9AE09E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401652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2268360"/>
            <a:ext cx="401652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3BF8-4F15-44C7-83D1-43A72420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0845-53DA-44B0-B1DA-D2A542FB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90600"/>
            <a:ext cx="8231040" cy="75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2E48-0173-4B00-9BCA-37FF543D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2268360"/>
            <a:ext cx="401652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561960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F61C-3D11-448F-9732-88179B07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401652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226836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561960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9500-7F46-4C18-98BE-94EE1383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226836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5619600"/>
            <a:ext cx="823104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6D50-D0A2-4A36-818A-9614D157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68360"/>
            <a:ext cx="823104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8850240"/>
            <a:ext cx="21337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5520" y="8850240"/>
            <a:ext cx="289404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880" y="8850240"/>
            <a:ext cx="21333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DF4B-B38C-49B3-8595-21465D675008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50800" y="181080"/>
          <a:ext cx="1033560" cy="15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0800" y="181080"/>
                    <a:ext cx="103356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1450800" y="1816200"/>
          <a:ext cx="1033560" cy="143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0800" y="1816200"/>
                    <a:ext cx="1033560" cy="14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1190160" y="174600"/>
            <a:ext cx="372600" cy="16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02760" y="1701720"/>
            <a:ext cx="30888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498960" y="911160"/>
            <a:ext cx="117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KH-Symmetry (%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6200000">
            <a:off x="470160" y="2410200"/>
            <a:ext cx="1236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KH-Asymmetry (%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93440" y="168120"/>
            <a:ext cx="461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2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600" y="-34920"/>
            <a:ext cx="317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187880" y="181080"/>
          <a:ext cx="1033560" cy="158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87880" y="181080"/>
                    <a:ext cx="103356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3911040" y="196920"/>
            <a:ext cx="37260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7440" y="1674720"/>
            <a:ext cx="461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2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98480" y="168120"/>
            <a:ext cx="543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CT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187880" y="1687680"/>
          <a:ext cx="1033560" cy="158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87880" y="1687680"/>
                    <a:ext cx="103356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3974760" y="1625760"/>
            <a:ext cx="30888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2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87320" y="1674720"/>
            <a:ext cx="543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CT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1233360" y="3440520"/>
            <a:ext cx="872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ental cel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1645920" y="3332520"/>
            <a:ext cx="63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SDCSC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1805040" y="3460680"/>
            <a:ext cx="891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fferenti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3952800" y="3446280"/>
            <a:ext cx="872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ental cel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4365360" y="3338640"/>
            <a:ext cx="63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SDCSC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4525920" y="3460680"/>
            <a:ext cx="891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fferenti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36320" y="3240"/>
            <a:ext cx="317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34160" y="4140360"/>
            <a:ext cx="307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765840" y="181080"/>
          <a:ext cx="1551240" cy="158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65840" y="181080"/>
                    <a:ext cx="155124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6479640" y="174600"/>
            <a:ext cx="372600" cy="16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765840" y="1708200"/>
          <a:ext cx="1551240" cy="1582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65840" y="1708200"/>
                    <a:ext cx="155124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6527160" y="1646280"/>
            <a:ext cx="308880" cy="16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5847480" y="893520"/>
            <a:ext cx="117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KH-Symmetry (%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5818680" y="2413080"/>
            <a:ext cx="1236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KH-Asymmetry (%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84"/>
          <p:cNvSpPr/>
          <p:nvPr/>
        </p:nvSpPr>
        <p:spPr>
          <a:xfrm>
            <a:off x="5627520" y="3132000"/>
            <a:ext cx="13208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Ve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FLAG-Numb(162-40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Numb(F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-cat (m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931080" y="3205080"/>
          <a:ext cx="1241280" cy="907920"/>
        </p:xfrm>
        <a:graphic>
          <a:graphicData uri="http://schemas.openxmlformats.org/drawingml/2006/table">
            <a:tbl>
              <a:tblPr/>
              <a:tblGrid>
                <a:gridCol w="311040"/>
                <a:gridCol w="306360"/>
                <a:gridCol w="311400"/>
                <a:gridCol w="31248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Text Box 1284"/>
          <p:cNvSpPr/>
          <p:nvPr/>
        </p:nvSpPr>
        <p:spPr>
          <a:xfrm>
            <a:off x="3530160" y="7229520"/>
            <a:ext cx="7660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Ve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146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Puro-Ve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Puro-Num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248000" y="7296120"/>
          <a:ext cx="1225440" cy="957240"/>
        </p:xfrm>
        <a:graphic>
          <a:graphicData uri="http://schemas.openxmlformats.org/drawingml/2006/table">
            <a:tbl>
              <a:tblPr/>
              <a:tblGrid>
                <a:gridCol w="308160"/>
                <a:gridCol w="306360"/>
                <a:gridCol w="303120"/>
                <a:gridCol w="30780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7021080" y="168120"/>
            <a:ext cx="950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HT29 SDCSC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080" y="1695600"/>
            <a:ext cx="950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HT29 SDCSC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317600" y="4262400"/>
          <a:ext cx="1550880" cy="1582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317600" y="4262400"/>
                    <a:ext cx="155088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1055160" y="4262400"/>
            <a:ext cx="372600" cy="16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317600" y="5789520"/>
          <a:ext cx="1550880" cy="1582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317600" y="5789520"/>
                    <a:ext cx="155088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1284"/>
          <p:cNvSpPr/>
          <p:nvPr/>
        </p:nvSpPr>
        <p:spPr>
          <a:xfrm>
            <a:off x="252360" y="7308720"/>
            <a:ext cx="13208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Ve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FLAG-Numb(162-40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Numb(F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-cat (m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55920" y="7367760"/>
          <a:ext cx="1241280" cy="907920"/>
        </p:xfrm>
        <a:graphic>
          <a:graphicData uri="http://schemas.openxmlformats.org/drawingml/2006/table">
            <a:tbl>
              <a:tblPr/>
              <a:tblGrid>
                <a:gridCol w="311040"/>
                <a:gridCol w="306360"/>
                <a:gridCol w="311400"/>
                <a:gridCol w="31248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1118520" y="5803920"/>
            <a:ext cx="30888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365760" y="4952880"/>
            <a:ext cx="117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KH-Symmetry (%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336960" y="6472440"/>
            <a:ext cx="1236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KH-Asymmetry (%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74280" y="4249800"/>
            <a:ext cx="103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HCT15 SDCSC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74280" y="5776920"/>
            <a:ext cx="103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HCT15 SDCSC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3221640" y="871200"/>
            <a:ext cx="117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KH-Symmetry (%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3192840" y="2370240"/>
            <a:ext cx="1236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KH-Asymmetry (%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34160" y="-34920"/>
            <a:ext cx="317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6440" y="4140360"/>
            <a:ext cx="317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033800" y="4278240"/>
          <a:ext cx="1550880" cy="1582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033800" y="4278240"/>
                    <a:ext cx="155088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3745800" y="4276800"/>
            <a:ext cx="372600" cy="16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067280" y="5789520"/>
          <a:ext cx="1550880" cy="15829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067280" y="5789520"/>
                    <a:ext cx="155088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3818880" y="5816520"/>
            <a:ext cx="308880" cy="15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3054960" y="4989240"/>
            <a:ext cx="117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KH-Symmetry (%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3026160" y="6566040"/>
            <a:ext cx="1236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KH-Asymmetry (%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38160" y="4264200"/>
            <a:ext cx="461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2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38160" y="5776920"/>
            <a:ext cx="461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2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5885280" y="4989240"/>
            <a:ext cx="117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KH-Symmetry (%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5858280" y="6580440"/>
            <a:ext cx="1236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KH-Asymmetry (%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84"/>
          <p:cNvSpPr/>
          <p:nvPr/>
        </p:nvSpPr>
        <p:spPr>
          <a:xfrm>
            <a:off x="6230520" y="7229520"/>
            <a:ext cx="7660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Ve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146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Puro-Ve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Puro-Num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948360" y="7296120"/>
          <a:ext cx="1223640" cy="957240"/>
        </p:xfrm>
        <a:graphic>
          <a:graphicData uri="http://schemas.openxmlformats.org/drawingml/2006/table">
            <a:tbl>
              <a:tblPr/>
              <a:tblGrid>
                <a:gridCol w="307440"/>
                <a:gridCol w="306000"/>
                <a:gridCol w="303120"/>
                <a:gridCol w="30708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5799240" y="4140360"/>
            <a:ext cx="296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693800" y="431640"/>
            <a:ext cx="216000" cy="71640"/>
            <a:chOff x="1693800" y="431640"/>
            <a:chExt cx="216000" cy="71640"/>
          </a:xfrm>
        </p:grpSpPr>
        <p:sp>
          <p:nvSpPr>
            <p:cNvPr id="114" name=""/>
            <p:cNvSpPr/>
            <p:nvPr/>
          </p:nvSpPr>
          <p:spPr>
            <a:xfrm>
              <a:off x="1693800" y="46836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93800" y="43164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08000" y="43164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981080" y="431640"/>
            <a:ext cx="216000" cy="71640"/>
            <a:chOff x="1981080" y="431640"/>
            <a:chExt cx="216000" cy="71640"/>
          </a:xfrm>
        </p:grpSpPr>
        <p:sp>
          <p:nvSpPr>
            <p:cNvPr id="118" name=""/>
            <p:cNvSpPr/>
            <p:nvPr/>
          </p:nvSpPr>
          <p:spPr>
            <a:xfrm>
              <a:off x="1981080" y="46836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81080" y="43164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95280" y="43164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693800" y="1946160"/>
            <a:ext cx="503280" cy="71280"/>
            <a:chOff x="1693800" y="1946160"/>
            <a:chExt cx="503280" cy="71280"/>
          </a:xfrm>
        </p:grpSpPr>
        <p:grpSp>
          <p:nvGrpSpPr>
            <p:cNvPr id="122" name=""/>
            <p:cNvGrpSpPr/>
            <p:nvPr/>
          </p:nvGrpSpPr>
          <p:grpSpPr>
            <a:xfrm>
              <a:off x="1693800" y="1946160"/>
              <a:ext cx="216000" cy="71280"/>
              <a:chOff x="1693800" y="1946160"/>
              <a:chExt cx="216000" cy="71280"/>
            </a:xfrm>
          </p:grpSpPr>
          <p:sp>
            <p:nvSpPr>
              <p:cNvPr id="123" name=""/>
              <p:cNvSpPr/>
              <p:nvPr/>
            </p:nvSpPr>
            <p:spPr>
              <a:xfrm>
                <a:off x="1693800" y="198252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693800" y="1946160"/>
                <a:ext cx="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908000" y="1946160"/>
                <a:ext cx="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1981080" y="1946160"/>
              <a:ext cx="216000" cy="71280"/>
              <a:chOff x="1981080" y="1946160"/>
              <a:chExt cx="216000" cy="71280"/>
            </a:xfrm>
          </p:grpSpPr>
          <p:sp>
            <p:nvSpPr>
              <p:cNvPr id="127" name=""/>
              <p:cNvSpPr/>
              <p:nvPr/>
            </p:nvSpPr>
            <p:spPr>
              <a:xfrm>
                <a:off x="1981080" y="198252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981080" y="1946160"/>
                <a:ext cx="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195280" y="1946160"/>
                <a:ext cx="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429080" y="1903320"/>
            <a:ext cx="216000" cy="71640"/>
            <a:chOff x="4429080" y="1903320"/>
            <a:chExt cx="216000" cy="71640"/>
          </a:xfrm>
        </p:grpSpPr>
        <p:sp>
          <p:nvSpPr>
            <p:cNvPr id="131" name=""/>
            <p:cNvSpPr/>
            <p:nvPr/>
          </p:nvSpPr>
          <p:spPr>
            <a:xfrm>
              <a:off x="4429080" y="19400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29080" y="190332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43280" y="190332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732200" y="1903320"/>
            <a:ext cx="216000" cy="71640"/>
            <a:chOff x="4732200" y="1903320"/>
            <a:chExt cx="216000" cy="71640"/>
          </a:xfrm>
        </p:grpSpPr>
        <p:sp>
          <p:nvSpPr>
            <p:cNvPr id="135" name=""/>
            <p:cNvSpPr/>
            <p:nvPr/>
          </p:nvSpPr>
          <p:spPr>
            <a:xfrm>
              <a:off x="4732200" y="19400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32200" y="190332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46400" y="190332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429080" y="468360"/>
            <a:ext cx="216000" cy="71280"/>
            <a:chOff x="4429080" y="468360"/>
            <a:chExt cx="216000" cy="71280"/>
          </a:xfrm>
        </p:grpSpPr>
        <p:sp>
          <p:nvSpPr>
            <p:cNvPr id="139" name=""/>
            <p:cNvSpPr/>
            <p:nvPr/>
          </p:nvSpPr>
          <p:spPr>
            <a:xfrm>
              <a:off x="4429080" y="50472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29080" y="468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43280" y="468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716360" y="468360"/>
            <a:ext cx="216000" cy="71280"/>
            <a:chOff x="4716360" y="468360"/>
            <a:chExt cx="216000" cy="71280"/>
          </a:xfrm>
        </p:grpSpPr>
        <p:sp>
          <p:nvSpPr>
            <p:cNvPr id="143" name=""/>
            <p:cNvSpPr/>
            <p:nvPr/>
          </p:nvSpPr>
          <p:spPr>
            <a:xfrm>
              <a:off x="4716360" y="50472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16360" y="468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930560" y="468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7107120" y="431640"/>
            <a:ext cx="863280" cy="71640"/>
            <a:chOff x="7107120" y="431640"/>
            <a:chExt cx="863280" cy="71640"/>
          </a:xfrm>
        </p:grpSpPr>
        <p:sp>
          <p:nvSpPr>
            <p:cNvPr id="147" name=""/>
            <p:cNvSpPr/>
            <p:nvPr/>
          </p:nvSpPr>
          <p:spPr>
            <a:xfrm>
              <a:off x="7107120" y="46836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07120" y="43164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46760" y="43164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83120" y="4683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970400" y="43164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683120" y="43164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7107120" y="1946160"/>
            <a:ext cx="863280" cy="71640"/>
            <a:chOff x="7107120" y="1946160"/>
            <a:chExt cx="863280" cy="71640"/>
          </a:xfrm>
        </p:grpSpPr>
        <p:sp>
          <p:nvSpPr>
            <p:cNvPr id="154" name=""/>
            <p:cNvSpPr/>
            <p:nvPr/>
          </p:nvSpPr>
          <p:spPr>
            <a:xfrm>
              <a:off x="7107120" y="198288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07120" y="194616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46760" y="194616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83120" y="19828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70400" y="194616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83120" y="194616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658880" y="4549680"/>
            <a:ext cx="863280" cy="71640"/>
            <a:chOff x="1658880" y="4549680"/>
            <a:chExt cx="863280" cy="71640"/>
          </a:xfrm>
        </p:grpSpPr>
        <p:sp>
          <p:nvSpPr>
            <p:cNvPr id="161" name=""/>
            <p:cNvSpPr/>
            <p:nvPr/>
          </p:nvSpPr>
          <p:spPr>
            <a:xfrm>
              <a:off x="1658880" y="458640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58880" y="454968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98520" y="454968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34880" y="45864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22160" y="454968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34880" y="454968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658880" y="6062760"/>
            <a:ext cx="863280" cy="71280"/>
            <a:chOff x="1658880" y="6062760"/>
            <a:chExt cx="863280" cy="71280"/>
          </a:xfrm>
        </p:grpSpPr>
        <p:sp>
          <p:nvSpPr>
            <p:cNvPr id="168" name=""/>
            <p:cNvSpPr/>
            <p:nvPr/>
          </p:nvSpPr>
          <p:spPr>
            <a:xfrm>
              <a:off x="1658880" y="609912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58880" y="6062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98520" y="6062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34880" y="60991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22160" y="6062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34880" y="6062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4321080" y="45655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21080" y="452916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10160" y="452916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950000" y="4529160"/>
            <a:ext cx="288720" cy="71280"/>
            <a:chOff x="4950000" y="4529160"/>
            <a:chExt cx="288720" cy="71280"/>
          </a:xfrm>
        </p:grpSpPr>
        <p:sp>
          <p:nvSpPr>
            <p:cNvPr id="178" name=""/>
            <p:cNvSpPr/>
            <p:nvPr/>
          </p:nvSpPr>
          <p:spPr>
            <a:xfrm>
              <a:off x="4950000" y="456552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950000" y="45291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38720" y="45291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357800" y="61135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57800" y="6076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6520" y="6076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986360" y="6076800"/>
            <a:ext cx="288720" cy="71280"/>
            <a:chOff x="4986360" y="6076800"/>
            <a:chExt cx="288720" cy="71280"/>
          </a:xfrm>
        </p:grpSpPr>
        <p:sp>
          <p:nvSpPr>
            <p:cNvPr id="185" name=""/>
            <p:cNvSpPr/>
            <p:nvPr/>
          </p:nvSpPr>
          <p:spPr>
            <a:xfrm>
              <a:off x="4986360" y="611316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86360" y="6076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275080" y="6076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683000" y="324000"/>
            <a:ext cx="22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70280" y="324000"/>
            <a:ext cx="22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95600" y="1836720"/>
            <a:ext cx="22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70280" y="1836720"/>
            <a:ext cx="22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07120" y="358920"/>
            <a:ext cx="26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392720" y="1895400"/>
            <a:ext cx="26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19960" y="358920"/>
            <a:ext cx="22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19960" y="1908000"/>
            <a:ext cx="22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39240" y="324000"/>
            <a:ext cx="22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729920" y="324000"/>
            <a:ext cx="22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70880" y="1852560"/>
            <a:ext cx="22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39240" y="1852560"/>
            <a:ext cx="22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61120" y="4429080"/>
            <a:ext cx="31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61120" y="5934240"/>
            <a:ext cx="31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22640" y="4422600"/>
            <a:ext cx="26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22640" y="5934240"/>
            <a:ext cx="26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94800" y="4421160"/>
            <a:ext cx="31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38720" y="5946840"/>
            <a:ext cx="31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70520" y="4421160"/>
            <a:ext cx="22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31000" y="5946840"/>
            <a:ext cx="22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805440" y="4276800"/>
          <a:ext cx="1551240" cy="1582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805440" y="4276800"/>
                    <a:ext cx="155124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6543000" y="4276800"/>
            <a:ext cx="372600" cy="16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6772320" y="5789520"/>
          <a:ext cx="1550880" cy="15829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772320" y="5789520"/>
                    <a:ext cx="155088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6557400" y="5875200"/>
            <a:ext cx="30888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235280" y="4264200"/>
            <a:ext cx="543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CT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235280" y="5776920"/>
            <a:ext cx="543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CT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9600" y="60418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59600" y="60055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48680" y="60055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670880" y="6005520"/>
            <a:ext cx="288720" cy="71280"/>
            <a:chOff x="7670880" y="6005520"/>
            <a:chExt cx="288720" cy="71280"/>
          </a:xfrm>
        </p:grpSpPr>
        <p:sp>
          <p:nvSpPr>
            <p:cNvPr id="220" name=""/>
            <p:cNvSpPr/>
            <p:nvPr/>
          </p:nvSpPr>
          <p:spPr>
            <a:xfrm>
              <a:off x="7670880" y="604188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70880" y="60055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959600" y="60055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110360" y="4565520"/>
            <a:ext cx="288720" cy="71280"/>
            <a:chOff x="7110360" y="4565520"/>
            <a:chExt cx="288720" cy="71280"/>
          </a:xfrm>
        </p:grpSpPr>
        <p:sp>
          <p:nvSpPr>
            <p:cNvPr id="224" name=""/>
            <p:cNvSpPr/>
            <p:nvPr/>
          </p:nvSpPr>
          <p:spPr>
            <a:xfrm>
              <a:off x="7110360" y="460188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110360" y="45655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99080" y="45655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7707240" y="4565520"/>
            <a:ext cx="288720" cy="71280"/>
            <a:chOff x="7707240" y="4565520"/>
            <a:chExt cx="288720" cy="71280"/>
          </a:xfrm>
        </p:grpSpPr>
        <p:sp>
          <p:nvSpPr>
            <p:cNvPr id="228" name=""/>
            <p:cNvSpPr/>
            <p:nvPr/>
          </p:nvSpPr>
          <p:spPr>
            <a:xfrm>
              <a:off x="7707240" y="460188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707240" y="45655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995960" y="45655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7132680" y="4435560"/>
            <a:ext cx="22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121880" y="5992920"/>
            <a:ext cx="22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96440" y="6005520"/>
            <a:ext cx="22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731360" y="4435560"/>
            <a:ext cx="22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4360" y="8461080"/>
            <a:ext cx="9001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Supplementary Figure 4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Symmetric and asymmetric segregation of PKH26 vesicles in colorectal cell lin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A-B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) The percentage of the asymmetry/symmetry of PKH26 vesicles in parental cells, SDCSCs and serum-differentiated SDCSCs (Differentiation) in HT29 (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) and HCT15 cells (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). Data represent mean ± S.D. *, p&lt;0.05 **, p&lt;0.01 (Student’s t test) (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C-D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) Histograms for showing percentages of PKH26 vesicle asymmetry/symmetry at the indicated stable cell lines of HT29 SDCSCs (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) and HCT15 SDCSCs (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). *, p&lt;0.05; **, p&lt;0.01; ***, p&lt;0.001 (Student’s t test). (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E-F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) Histograms for showing percentages of PKH26 vesicle asymmetry/symmetry at indicated stable cell lines from HT29 (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) and HCT15 parental cells (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) *, p&lt;0.05; ***, p&lt;0.001 (Student’s t test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30T13:35:00Z</dcterms:created>
  <dc:creator>WL</dc:creator>
  <dc:description/>
  <dc:language>en-US</dc:language>
  <cp:lastModifiedBy>WL</cp:lastModifiedBy>
  <dcterms:modified xsi:type="dcterms:W3CDTF">2016-07-20T13:36:56Z</dcterms:modified>
  <cp:revision>320</cp:revision>
  <dc:subject/>
  <dc:title>投影片 1</dc:title>
</cp:coreProperties>
</file>