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9723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5A6-D2A3-42B3-AB36-A9B71D71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561960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5FC-C39B-4C56-BEFB-7AB23393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5DDB-BD2F-4D2E-A196-BC101D69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BF8-2140-46DE-96B0-5CECF8E2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EECD-75C9-4BD0-8DE8-AFE206E1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D3F4-EFCD-46BF-97B8-EDDDEF6E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6489-4F6D-420A-925B-2EB13253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2934-EF7A-4DF1-ADEC-90F46D0F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90600"/>
            <a:ext cx="8231040" cy="75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D0EF-5B7E-4847-B051-C4FCCE5B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4839-42EB-4C1C-AC9F-650C8278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C32-EC25-4BC8-B45C-1667C8E3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4DF-DF92-4DCC-9118-9712BF60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8850240"/>
            <a:ext cx="21337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8850240"/>
            <a:ext cx="289404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8850240"/>
            <a:ext cx="21333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53AB-B08F-4578-AF0C-DCAA00DF0DB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648480" y="2697120"/>
          <a:ext cx="1292040" cy="15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8480" y="2697120"/>
                    <a:ext cx="129204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直線接點 18"/>
          <p:cNvSpPr/>
          <p:nvPr/>
        </p:nvSpPr>
        <p:spPr>
          <a:xfrm>
            <a:off x="6718320" y="4379760"/>
            <a:ext cx="40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86680" y="2308320"/>
            <a:ext cx="31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1160" y="2308320"/>
            <a:ext cx="350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570040" y="2631960"/>
          <a:ext cx="1289160" cy="158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0040" y="2631960"/>
                    <a:ext cx="128916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285280" y="2662200"/>
            <a:ext cx="34092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9640" y="413712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95360" y="413712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1654920" y="323820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ative via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MTT reactivit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1440" y="2557440"/>
            <a:ext cx="95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T29 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47800" y="36360"/>
            <a:ext cx="351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83160" y="420840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5677560" y="33177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ondary sphe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 1000 cel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60440" y="2664000"/>
            <a:ext cx="95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T29 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498920" y="2698920"/>
          <a:ext cx="1292400" cy="158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8920" y="2698920"/>
                    <a:ext cx="129240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4204440" y="2733840"/>
            <a:ext cx="34092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3443400" y="336996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Relative prolif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(BrdU incorporati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17760" y="420840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8800" y="2719440"/>
            <a:ext cx="37260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09440" y="2624040"/>
            <a:ext cx="95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T29 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64880" y="420372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25600" y="42084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780800"/>
            <a:ext cx="91454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Supplementary Figure 1. Characterization of PKH26-labeled colorectal cancer cel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Flow cytometry for showing the staining efficiency of PKH26 dye in HT29 parental cells and sphere-derived cancer stem cells (SDCSCs). Buffer C, Buffer diluent C as a control; PKH26, PKH26 dye staining.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Immunofluorescent images for showing the association or colocalization of PKH26 vesicles and subcellular organelles. PKH26 dye, red; organelle markers (CD81, ER, Mito), green; DNA, blue. Scale bar=5μm. ER, endoplasmic reticulum, marked by calreticulin; Mito, mitochondria, marked by MitoTracker Deep Red FM, pseudocolor in green.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The MTT viability assay (left) and BrdU proliferation assay (right) in PKH26-labeled and non-labeled HT29 SDCSCs. Buffer C, mock staining control. Data represent mean ± S.D. n=3 independent experiments.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A histogram for quantifying the secondary sphere formation of PKH26-labeled and non-labeled HT29 SDCSCs. Data represent mean ± S.D. n=3 independent experim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7"/>
          <a:srcRect l="6946" t="0" r="33397" b="26199"/>
          <a:stretch/>
        </p:blipFill>
        <p:spPr>
          <a:xfrm>
            <a:off x="262080" y="2565360"/>
            <a:ext cx="1481040" cy="1824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80920" y="2919240"/>
            <a:ext cx="79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80920" y="2895480"/>
            <a:ext cx="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00160" y="2746440"/>
            <a:ext cx="57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9.56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8"/>
          <a:srcRect l="8252" t="0" r="34674" b="25795"/>
          <a:stretch/>
        </p:blipFill>
        <p:spPr>
          <a:xfrm>
            <a:off x="236520" y="477720"/>
            <a:ext cx="1490760" cy="1878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55720" y="88740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55720" y="863640"/>
            <a:ext cx="0" cy="4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01240" y="684360"/>
            <a:ext cx="57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9.33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-380160" y="1225800"/>
            <a:ext cx="117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29 parental cel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0960" y="4527720"/>
            <a:ext cx="4320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10960" y="4168440"/>
            <a:ext cx="0" cy="3589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5800" y="4429080"/>
            <a:ext cx="84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26 (FL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134640" y="3779640"/>
            <a:ext cx="65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% of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00" y="36360"/>
            <a:ext cx="31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-268920" y="2973600"/>
            <a:ext cx="95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T29 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55800" y="214200"/>
            <a:ext cx="108000" cy="1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55800" y="358920"/>
            <a:ext cx="108000" cy="10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62720" y="16668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ffer 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3080" y="311040"/>
            <a:ext cx="54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字方塊 28"/>
          <p:cNvSpPr/>
          <p:nvPr/>
        </p:nvSpPr>
        <p:spPr>
          <a:xfrm>
            <a:off x="3857760" y="468360"/>
            <a:ext cx="1682640" cy="23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PKH26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900" spc="-1" strike="noStrike">
                <a:solidFill>
                  <a:srgbClr val="00ff00"/>
                </a:solidFill>
                <a:latin typeface="Arial"/>
              </a:rPr>
              <a:t>Mito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/  </a:t>
            </a: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C:\Users\User\Desktop\confocal 880\pkhmit100nM\11.tif"/>
          <p:cNvPicPr/>
          <p:nvPr/>
        </p:nvPicPr>
        <p:blipFill>
          <a:blip r:embed="rId9"/>
          <a:srcRect l="32484" t="33223" r="35408" b="37249"/>
          <a:stretch/>
        </p:blipFill>
        <p:spPr>
          <a:xfrm>
            <a:off x="3857760" y="716040"/>
            <a:ext cx="1682640" cy="1419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0"/>
          <a:srcRect l="50041" t="48874" r="19739" b="25555"/>
          <a:stretch/>
        </p:blipFill>
        <p:spPr>
          <a:xfrm>
            <a:off x="2108160" y="716040"/>
            <a:ext cx="1682640" cy="1423800"/>
          </a:xfrm>
          <a:prstGeom prst="rect">
            <a:avLst/>
          </a:prstGeom>
          <a:ln w="0">
            <a:noFill/>
          </a:ln>
        </p:spPr>
      </p:pic>
      <p:sp>
        <p:nvSpPr>
          <p:cNvPr id="89" name="文字方塊 28"/>
          <p:cNvSpPr/>
          <p:nvPr/>
        </p:nvSpPr>
        <p:spPr>
          <a:xfrm>
            <a:off x="2108160" y="468360"/>
            <a:ext cx="1682640" cy="23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PKH26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900" spc="-1" strike="noStrike">
                <a:solidFill>
                  <a:srgbClr val="00ff00"/>
                </a:solidFill>
                <a:latin typeface="Arial"/>
              </a:rPr>
              <a:t>CD81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/  </a:t>
            </a: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1"/>
          <a:srcRect l="16606" t="44039" r="73745" b="43391"/>
          <a:stretch/>
        </p:blipFill>
        <p:spPr>
          <a:xfrm>
            <a:off x="5605560" y="716040"/>
            <a:ext cx="1684080" cy="1423800"/>
          </a:xfrm>
          <a:prstGeom prst="rect">
            <a:avLst/>
          </a:prstGeom>
          <a:ln w="0">
            <a:noFill/>
          </a:ln>
        </p:spPr>
      </p:pic>
      <p:sp>
        <p:nvSpPr>
          <p:cNvPr id="91" name="文字方塊 28"/>
          <p:cNvSpPr/>
          <p:nvPr/>
        </p:nvSpPr>
        <p:spPr>
          <a:xfrm>
            <a:off x="5607000" y="474840"/>
            <a:ext cx="1682640" cy="23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PKH26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900" spc="-1" strike="noStrike">
                <a:solidFill>
                  <a:srgbClr val="00ff00"/>
                </a:solidFill>
                <a:latin typeface="Arial"/>
              </a:rPr>
              <a:t>ER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/  </a:t>
            </a: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線接點 18"/>
          <p:cNvSpPr/>
          <p:nvPr/>
        </p:nvSpPr>
        <p:spPr>
          <a:xfrm>
            <a:off x="3346560" y="2060640"/>
            <a:ext cx="361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線接點 18"/>
          <p:cNvSpPr/>
          <p:nvPr/>
        </p:nvSpPr>
        <p:spPr>
          <a:xfrm>
            <a:off x="6861240" y="2076480"/>
            <a:ext cx="36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線接點 18"/>
          <p:cNvSpPr/>
          <p:nvPr/>
        </p:nvSpPr>
        <p:spPr>
          <a:xfrm>
            <a:off x="5113440" y="2060640"/>
            <a:ext cx="36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字方塊 28"/>
          <p:cNvSpPr/>
          <p:nvPr/>
        </p:nvSpPr>
        <p:spPr>
          <a:xfrm>
            <a:off x="7354800" y="473040"/>
            <a:ext cx="1683000" cy="23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PKH26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900" spc="-1" strike="noStrike">
                <a:solidFill>
                  <a:srgbClr val="00ff00"/>
                </a:solidFill>
                <a:latin typeface="Arial"/>
              </a:rPr>
              <a:t>2’Ab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/  </a:t>
            </a: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2">
            <a:lum bright="-6000"/>
          </a:blip>
          <a:srcRect l="33333" t="33333" r="58333" b="58333"/>
          <a:stretch/>
        </p:blipFill>
        <p:spPr>
          <a:xfrm>
            <a:off x="7354800" y="716040"/>
            <a:ext cx="1683000" cy="1423800"/>
          </a:xfrm>
          <a:prstGeom prst="rect">
            <a:avLst/>
          </a:prstGeom>
          <a:ln w="0">
            <a:noFill/>
          </a:ln>
        </p:spPr>
      </p:pic>
      <p:sp>
        <p:nvSpPr>
          <p:cNvPr id="97" name="直線接點 18"/>
          <p:cNvSpPr/>
          <p:nvPr/>
        </p:nvSpPr>
        <p:spPr>
          <a:xfrm>
            <a:off x="8583480" y="2076480"/>
            <a:ext cx="362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55640" y="863640"/>
            <a:ext cx="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9400" y="28782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0T13:35:00Z</dcterms:created>
  <dc:creator>WL</dc:creator>
  <dc:description/>
  <dc:language>en-US</dc:language>
  <cp:lastModifiedBy>WL</cp:lastModifiedBy>
  <dcterms:modified xsi:type="dcterms:W3CDTF">2016-07-21T09:53:33Z</dcterms:modified>
  <cp:revision>290</cp:revision>
  <dc:subject/>
  <dc:title>投影片 1</dc:title>
</cp:coreProperties>
</file>