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EC1-DBD7-45B1-A72A-3CDA13BF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CFF-646B-4947-8125-FB5EFEF9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BFC-5DA7-4CBF-936A-46F77408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259-31FD-47F6-85DA-26F0B7F3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1C6-9D76-4C20-938E-075DA4C5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130-01D5-4585-896B-FCAFF42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2BF-F50F-47C5-9041-B420766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54D-33C8-4623-963E-68D1983D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522-3E7E-44F0-8A49-9C17FF3A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B9D-1FEF-4687-8A5E-996E28F3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B53-BDC1-45AF-9659-9CE6CA5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FD1-B3B8-4121-91D1-CB9B0FA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7CF-00F6-4058-A99A-7DB59D0193B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18108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0160" y="555480"/>
          <a:ext cx="128916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555480"/>
                    <a:ext cx="12891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146"/>
          <p:cNvSpPr/>
          <p:nvPr/>
        </p:nvSpPr>
        <p:spPr>
          <a:xfrm rot="16200000">
            <a:off x="10080" y="1216440"/>
            <a:ext cx="97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age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1"/>
          <p:cNvSpPr/>
          <p:nvPr/>
        </p:nvSpPr>
        <p:spPr>
          <a:xfrm>
            <a:off x="537480" y="555480"/>
            <a:ext cx="3726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5320" y="4842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21680" y="2046240"/>
            <a:ext cx="30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Z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33880" y="204624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87640" y="690480"/>
            <a:ext cx="827280" cy="326520"/>
            <a:chOff x="2087640" y="690480"/>
            <a:chExt cx="827280" cy="326520"/>
          </a:xfrm>
        </p:grpSpPr>
        <p:sp>
          <p:nvSpPr>
            <p:cNvPr id="50" name="Text Box 161"/>
            <p:cNvSpPr/>
            <p:nvPr/>
          </p:nvSpPr>
          <p:spPr>
            <a:xfrm>
              <a:off x="2174760" y="690480"/>
              <a:ext cx="7401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Arial"/>
                </a:rPr>
                <a:t>PKH-Sy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Arial"/>
                </a:rPr>
                <a:t>PKH-Asy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5"/>
            <p:cNvSpPr/>
            <p:nvPr/>
          </p:nvSpPr>
          <p:spPr>
            <a:xfrm>
              <a:off x="2087640" y="728640"/>
              <a:ext cx="144720" cy="85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36"/>
            <p:cNvSpPr/>
            <p:nvPr/>
          </p:nvSpPr>
          <p:spPr>
            <a:xfrm>
              <a:off x="2089800" y="866520"/>
              <a:ext cx="14436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332320" y="18108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797440" y="539640"/>
          <a:ext cx="3095640" cy="15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539640"/>
                    <a:ext cx="30956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535000" y="614520"/>
            <a:ext cx="3409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1200" y="205272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D4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4160" y="205272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GR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5840" y="2052720"/>
            <a:ext cx="57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CN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8880" y="2052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R-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1"/>
          <p:cNvSpPr/>
          <p:nvPr/>
        </p:nvSpPr>
        <p:spPr>
          <a:xfrm>
            <a:off x="6985800" y="325440"/>
            <a:ext cx="15858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-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-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35"/>
          <p:cNvSpPr/>
          <p:nvPr/>
        </p:nvSpPr>
        <p:spPr>
          <a:xfrm>
            <a:off x="6875640" y="388800"/>
            <a:ext cx="144360" cy="86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36"/>
          <p:cNvSpPr/>
          <p:nvPr/>
        </p:nvSpPr>
        <p:spPr>
          <a:xfrm>
            <a:off x="6875640" y="531720"/>
            <a:ext cx="144360" cy="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8"/>
          <p:cNvSpPr/>
          <p:nvPr/>
        </p:nvSpPr>
        <p:spPr>
          <a:xfrm>
            <a:off x="6328080" y="159696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8"/>
          <p:cNvSpPr/>
          <p:nvPr/>
        </p:nvSpPr>
        <p:spPr>
          <a:xfrm>
            <a:off x="6951960" y="170352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8"/>
          <p:cNvSpPr/>
          <p:nvPr/>
        </p:nvSpPr>
        <p:spPr>
          <a:xfrm>
            <a:off x="7577280" y="13413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8"/>
          <p:cNvSpPr/>
          <p:nvPr/>
        </p:nvSpPr>
        <p:spPr>
          <a:xfrm>
            <a:off x="8199720" y="129528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854600" y="1248120"/>
            <a:ext cx="118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ve expr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18108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84400" y="698400"/>
            <a:ext cx="502920" cy="231120"/>
            <a:chOff x="1184400" y="698400"/>
            <a:chExt cx="502920" cy="231120"/>
          </a:xfrm>
        </p:grpSpPr>
        <p:sp>
          <p:nvSpPr>
            <p:cNvPr id="71" name="Text Box 178"/>
            <p:cNvSpPr/>
            <p:nvPr/>
          </p:nvSpPr>
          <p:spPr>
            <a:xfrm>
              <a:off x="1257840" y="698400"/>
              <a:ext cx="31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Arial"/>
                </a:rPr>
                <a:t>***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82"/>
            <p:cNvSpPr/>
            <p:nvPr/>
          </p:nvSpPr>
          <p:spPr>
            <a:xfrm>
              <a:off x="1184400" y="81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83"/>
            <p:cNvSpPr/>
            <p:nvPr/>
          </p:nvSpPr>
          <p:spPr>
            <a:xfrm>
              <a:off x="1687320" y="809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4400" y="8589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3639960" y="533520"/>
          <a:ext cx="1292400" cy="15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9960" y="533520"/>
                    <a:ext cx="12924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19600" y="204948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62480" y="20494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37920" y="569880"/>
            <a:ext cx="3726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394720" y="12160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ercentage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-PKH</a:t>
            </a:r>
            <a:r>
              <a:rPr b="0" lang="zh-TW" sz="900" spc="-1" strike="noStrike" baseline="30000">
                <a:solidFill>
                  <a:srgbClr val="000000"/>
                </a:solidFill>
                <a:latin typeface="Arial"/>
              </a:rPr>
              <a:t>Dim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 vesicle lo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9440" y="3254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6360" y="2484360"/>
            <a:ext cx="9145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3. Characterization of miR-146a-5p knocked down or Numb-restored SDCSC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percentage of PKH26 vesicle asymmetry/symmetry in stable HT29 SDCSCs receiving scramble (Zc) or shRNA targeting miR-146a-5p (Z146a). PKH-Sym, symmetric segregation of PKH26-vesicles. PKH-Asym, asymmetric segregation of PKH26-vesicles. n (total counted cells over 2 independent experiments)=132 and 136 for HT29 SDCSC-Zc and HT29 SDCSCs-Z146a, respectively. The p-value is estimated by </a:t>
            </a:r>
            <a:r>
              <a:rPr b="0" lang="zh-TW" sz="1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 test. ***, p&lt;0.001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percentage of Numb and PKH26 vesicles co-expression (CE) or inverse expression (IE) in Numb-restored-PKH(Dim) daughter cells undergoing asymmetric cell division. Data represent mean ± S.D. n=3 independent experiments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RT-qPCR results for showing the expression of Wnt targets in HCT15 SDCSCs-Vec and HCT15 SDCSCs-Numb(FL). *, p&lt;0.05 **, p&lt;0.01 (Student’s t tes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0T13:37:09Z</dcterms:modified>
  <cp:revision>289</cp:revision>
  <dc:subject/>
  <dc:title>投影片 1</dc:title>
</cp:coreProperties>
</file>