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BDA-4F46-42AD-AC9E-3CC1B039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7680" y="39765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48C-CFA6-4283-B4E6-F3E780A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872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AD6-E2EF-4FEA-9DD4-FC58C31C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676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548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768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676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548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B32-9AA5-4780-ADAC-06FDA580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0473-32C1-4BEC-AFF2-C44C82F1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7A6-D29F-45EE-A448-6A7851C1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35AD-903F-49E2-A81D-733CC349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72A3-85B1-4828-9887-82D54C9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AE0D-F6F8-4179-A9FD-D24131C8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7680" y="608040"/>
            <a:ext cx="109695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8BE6-F07E-4742-9BA1-5621227C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45F4-4402-4D23-A88E-4933240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C84-06FE-4AC9-9B26-A6570A8D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872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742E-BACD-4CD2-9FB3-9D545BC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9112-7930-43A5-9498-A0927FB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7680" y="39765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6F1C-28D9-445E-8188-2913C54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872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4DEE-7FF3-4260-9D8A-F1CBDEC4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676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548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768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676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548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5ADD-DAB9-4992-A9E2-73EC4D23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D56-2363-4EAA-94AF-CCD4AF77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1BE-16F9-4721-921D-AE72EEA6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789-BDB2-4F96-9772-0FB4E795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7680" y="608040"/>
            <a:ext cx="109695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DE7-4E95-4573-AFA7-372CFBF7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E52-2F06-4B29-8B59-3724D69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872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42C-1059-4BEB-98BE-F5DC88EB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B85-C07E-43E1-BE0F-EE7B8EC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314760"/>
            <a:ext cx="26989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D477-E5B8-43BD-AE1B-21D8604F5FA0}" type="datetime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6240" y="631476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76880" y="631476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5618-BCAD-46CF-8B71-8BF812C162AA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314760"/>
            <a:ext cx="26989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2BF4-AFC5-44BE-A896-77BA7612486A}" type="datetime">
              <a:rPr b="0" lang="zh-CN" sz="10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16240" y="631476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876880" y="631476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BD3E-E930-4210-ABE6-C0BE7949E7F6}" type="slidenum">
              <a:rPr b="0" lang="zh-CN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135160" y="666720"/>
            <a:ext cx="6254640" cy="4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Gene expression profiling of 13 early and 16 advanc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arotid atherosclerotic pl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available from GSE288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4192560" y="1488960"/>
            <a:ext cx="105588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1807 DEmR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 flipH="1">
            <a:off x="3452400" y="1660680"/>
            <a:ext cx="739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接箭头连接符 64"/>
          <p:cNvCxnSpPr>
            <a:stCxn id="83" idx="1"/>
            <a:endCxn id="86" idx="3"/>
          </p:cNvCxnSpPr>
          <p:nvPr/>
        </p:nvCxnSpPr>
        <p:spPr>
          <a:xfrm flipH="1" flipV="1">
            <a:off x="3452760" y="1659600"/>
            <a:ext cx="7401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矩形 66"/>
          <p:cNvSpPr/>
          <p:nvPr/>
        </p:nvSpPr>
        <p:spPr>
          <a:xfrm>
            <a:off x="2679840" y="4540320"/>
            <a:ext cx="2114280" cy="4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mRNA-miRNA regulatory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0"/>
          <p:cNvSpPr/>
          <p:nvPr/>
        </p:nvSpPr>
        <p:spPr>
          <a:xfrm>
            <a:off x="4719600" y="1270080"/>
            <a:ext cx="20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GEO2R (|logFC|&gt;0.5 and adj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&lt;0.05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箭头连接符 48"/>
          <p:cNvCxnSpPr>
            <a:stCxn id="83" idx="1"/>
            <a:endCxn id="86" idx="3"/>
          </p:cNvCxnSpPr>
          <p:nvPr/>
        </p:nvCxnSpPr>
        <p:spPr>
          <a:xfrm flipH="1" flipV="1">
            <a:off x="3452760" y="1659600"/>
            <a:ext cx="7401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矩形 51"/>
          <p:cNvSpPr/>
          <p:nvPr/>
        </p:nvSpPr>
        <p:spPr>
          <a:xfrm>
            <a:off x="2233440" y="1468440"/>
            <a:ext cx="1219320" cy="3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222 Autophagy ge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3"/>
          <p:cNvSpPr/>
          <p:nvPr/>
        </p:nvSpPr>
        <p:spPr>
          <a:xfrm>
            <a:off x="3471840" y="14796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4"/>
          <p:cNvSpPr/>
          <p:nvPr/>
        </p:nvSpPr>
        <p:spPr>
          <a:xfrm>
            <a:off x="3013200" y="2062080"/>
            <a:ext cx="1520640" cy="3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19 Autophagy-related  DEmR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55"/>
          <p:cNvCxnSpPr>
            <a:stCxn id="83" idx="1"/>
            <a:endCxn id="93" idx="0"/>
          </p:cNvCxnSpPr>
          <p:nvPr/>
        </p:nvCxnSpPr>
        <p:spPr>
          <a:xfrm>
            <a:off x="4192560" y="1660320"/>
            <a:ext cx="739440" cy="1537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矩形 31"/>
          <p:cNvSpPr/>
          <p:nvPr/>
        </p:nvSpPr>
        <p:spPr>
          <a:xfrm>
            <a:off x="2135160" y="3197160"/>
            <a:ext cx="9334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GO and KEG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5"/>
          <p:cNvSpPr/>
          <p:nvPr/>
        </p:nvSpPr>
        <p:spPr>
          <a:xfrm>
            <a:off x="4257720" y="3197160"/>
            <a:ext cx="13478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PPI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箭头连接符 40"/>
          <p:cNvCxnSpPr>
            <a:stCxn id="93" idx="2"/>
            <a:endCxn id="96" idx="0"/>
          </p:cNvCxnSpPr>
          <p:nvPr/>
        </p:nvCxnSpPr>
        <p:spPr>
          <a:xfrm>
            <a:off x="4931640" y="3533760"/>
            <a:ext cx="7200" cy="343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矩形 41"/>
          <p:cNvSpPr/>
          <p:nvPr/>
        </p:nvSpPr>
        <p:spPr>
          <a:xfrm>
            <a:off x="4265640" y="3876840"/>
            <a:ext cx="1346040" cy="43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10 Hub genes (highest Degre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箭头连接符 57"/>
          <p:cNvCxnSpPr>
            <a:stCxn id="93" idx="2"/>
            <a:endCxn id="83" idx="0"/>
          </p:cNvCxnSpPr>
          <p:nvPr/>
        </p:nvCxnSpPr>
        <p:spPr>
          <a:xfrm flipH="1" flipV="1">
            <a:off x="4720320" y="1488960"/>
            <a:ext cx="211680" cy="2045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文本框 60"/>
          <p:cNvSpPr/>
          <p:nvPr/>
        </p:nvSpPr>
        <p:spPr>
          <a:xfrm>
            <a:off x="4989600" y="365112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cytohubb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00"/>
          <p:cNvSpPr/>
          <p:nvPr/>
        </p:nvSpPr>
        <p:spPr>
          <a:xfrm>
            <a:off x="3905280" y="2658960"/>
            <a:ext cx="114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String 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74"/>
          <p:cNvSpPr/>
          <p:nvPr/>
        </p:nvSpPr>
        <p:spPr>
          <a:xfrm flipH="1" flipV="1">
            <a:off x="2601720" y="2838600"/>
            <a:ext cx="2328840" cy="10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接箭头连接符 75"/>
          <p:cNvCxnSpPr>
            <a:stCxn id="91" idx="2"/>
          </p:cNvCxnSpPr>
          <p:nvPr/>
        </p:nvCxnSpPr>
        <p:spPr>
          <a:xfrm>
            <a:off x="3773520" y="2444760"/>
            <a:ext cx="720" cy="394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直接箭头连接符 76"/>
          <p:cNvCxnSpPr>
            <a:stCxn id="91" idx="2"/>
            <a:endCxn id="94" idx="0"/>
          </p:cNvCxnSpPr>
          <p:nvPr/>
        </p:nvCxnSpPr>
        <p:spPr>
          <a:xfrm flipH="1">
            <a:off x="2601720" y="2444760"/>
            <a:ext cx="1172160" cy="752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文本框 1"/>
          <p:cNvSpPr/>
          <p:nvPr/>
        </p:nvSpPr>
        <p:spPr>
          <a:xfrm>
            <a:off x="2593800" y="2908440"/>
            <a:ext cx="152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metascap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5635800" y="2316240"/>
            <a:ext cx="275400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Gene expression profiling of 4 early and 3 advanced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available from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SE346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接箭头连接符 4"/>
          <p:cNvCxnSpPr>
            <a:stCxn id="91" idx="2"/>
            <a:endCxn id="94" idx="0"/>
          </p:cNvCxnSpPr>
          <p:nvPr/>
        </p:nvCxnSpPr>
        <p:spPr>
          <a:xfrm flipH="1">
            <a:off x="2601720" y="2444760"/>
            <a:ext cx="1172160" cy="752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矩形 5"/>
          <p:cNvSpPr/>
          <p:nvPr/>
        </p:nvSpPr>
        <p:spPr>
          <a:xfrm>
            <a:off x="6384960" y="3876840"/>
            <a:ext cx="1293840" cy="41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genes of miR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7"/>
          <p:cNvSpPr/>
          <p:nvPr/>
        </p:nvSpPr>
        <p:spPr>
          <a:xfrm flipH="1">
            <a:off x="5635800" y="4125960"/>
            <a:ext cx="739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"/>
          <p:cNvSpPr/>
          <p:nvPr/>
        </p:nvSpPr>
        <p:spPr>
          <a:xfrm>
            <a:off x="5654520" y="38736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4989600" y="4492800"/>
            <a:ext cx="2255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4 key gen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CTSB, ITGB1, CXCR4,TNFSF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直接箭头连接符 12"/>
          <p:cNvCxnSpPr>
            <a:stCxn id="91" idx="2"/>
            <a:endCxn id="94" idx="0"/>
          </p:cNvCxnSpPr>
          <p:nvPr/>
        </p:nvCxnSpPr>
        <p:spPr>
          <a:xfrm flipH="1">
            <a:off x="2601720" y="2444760"/>
            <a:ext cx="1172160" cy="752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矩形 13"/>
          <p:cNvSpPr/>
          <p:nvPr/>
        </p:nvSpPr>
        <p:spPr>
          <a:xfrm>
            <a:off x="4930920" y="5518080"/>
            <a:ext cx="2314440" cy="45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correlation of key genes expres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and clinical and prognosi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直接箭头连接符 1"/>
          <p:cNvCxnSpPr>
            <a:stCxn id="91" idx="2"/>
            <a:endCxn id="94" idx="0"/>
          </p:cNvCxnSpPr>
          <p:nvPr/>
        </p:nvCxnSpPr>
        <p:spPr>
          <a:xfrm flipH="1">
            <a:off x="2601720" y="2444760"/>
            <a:ext cx="1172160" cy="752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文本框 70"/>
          <p:cNvSpPr/>
          <p:nvPr/>
        </p:nvSpPr>
        <p:spPr>
          <a:xfrm>
            <a:off x="7032600" y="2997360"/>
            <a:ext cx="206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GEO2R (|logFC|&gt;4 and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&lt;0.05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接箭头连接符 14"/>
          <p:cNvCxnSpPr>
            <a:stCxn id="91" idx="2"/>
          </p:cNvCxnSpPr>
          <p:nvPr/>
        </p:nvCxnSpPr>
        <p:spPr>
          <a:xfrm>
            <a:off x="3773520" y="2444760"/>
            <a:ext cx="3259080" cy="718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矩形 17"/>
          <p:cNvSpPr/>
          <p:nvPr/>
        </p:nvSpPr>
        <p:spPr>
          <a:xfrm>
            <a:off x="6461280" y="3191040"/>
            <a:ext cx="105552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16 DEmiR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直接箭头连接符 18"/>
          <p:cNvCxnSpPr>
            <a:stCxn id="91" idx="2"/>
          </p:cNvCxnSpPr>
          <p:nvPr/>
        </p:nvCxnSpPr>
        <p:spPr>
          <a:xfrm>
            <a:off x="3773520" y="2444760"/>
            <a:ext cx="2259720" cy="2023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矩形 6"/>
          <p:cNvSpPr/>
          <p:nvPr/>
        </p:nvSpPr>
        <p:spPr>
          <a:xfrm>
            <a:off x="3794040" y="5181480"/>
            <a:ext cx="92556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GSE402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3795840" y="5575320"/>
            <a:ext cx="925560" cy="5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GSE22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GSE165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3795840" y="6188040"/>
            <a:ext cx="925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GSE900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19"/>
          <p:cNvCxnSpPr>
            <a:stCxn id="91" idx="2"/>
          </p:cNvCxnSpPr>
          <p:nvPr/>
        </p:nvCxnSpPr>
        <p:spPr>
          <a:xfrm flipH="1">
            <a:off x="3454200" y="2444760"/>
            <a:ext cx="319680" cy="2903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直接箭头连接符 21"/>
          <p:cNvCxnSpPr>
            <a:stCxn id="91" idx="2"/>
          </p:cNvCxnSpPr>
          <p:nvPr/>
        </p:nvCxnSpPr>
        <p:spPr>
          <a:xfrm flipH="1">
            <a:off x="3450960" y="2444760"/>
            <a:ext cx="322920" cy="3394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直接箭头连接符 22"/>
          <p:cNvCxnSpPr>
            <a:stCxn id="91" idx="2"/>
          </p:cNvCxnSpPr>
          <p:nvPr/>
        </p:nvCxnSpPr>
        <p:spPr>
          <a:xfrm flipH="1">
            <a:off x="3450960" y="2444760"/>
            <a:ext cx="322920" cy="3889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矩形 24"/>
          <p:cNvSpPr/>
          <p:nvPr/>
        </p:nvSpPr>
        <p:spPr>
          <a:xfrm>
            <a:off x="2103480" y="5181480"/>
            <a:ext cx="13478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Coronary Heart Dis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5"/>
          <p:cNvSpPr/>
          <p:nvPr/>
        </p:nvSpPr>
        <p:spPr>
          <a:xfrm>
            <a:off x="2106720" y="5672160"/>
            <a:ext cx="13478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Str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6"/>
          <p:cNvSpPr/>
          <p:nvPr/>
        </p:nvSpPr>
        <p:spPr>
          <a:xfrm>
            <a:off x="2106720" y="6103800"/>
            <a:ext cx="1347840" cy="5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hypert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Hyperlipidem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右大括号 28"/>
          <p:cNvSpPr/>
          <p:nvPr/>
        </p:nvSpPr>
        <p:spPr>
          <a:xfrm>
            <a:off x="4756320" y="5248440"/>
            <a:ext cx="91800" cy="1095120"/>
          </a:xfrm>
          <a:custGeom>
            <a:avLst/>
            <a:gdLst>
              <a:gd name="textAreaLeft" fmla="*/ 0 w 91800"/>
              <a:gd name="textAreaRight" fmla="*/ 33120 w 91800"/>
              <a:gd name="textAreaTop" fmla="*/ 2160 h 1095120"/>
              <a:gd name="textAreaBottom" fmla="*/ 1092960 h 10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855"/>
                </a:lnTo>
                <a:cubicBezTo>
                  <a:pt x="10800" y="10931"/>
                  <a:pt x="16200" y="11006"/>
                  <a:pt x="21600" y="11006"/>
                </a:cubicBezTo>
                <a:cubicBezTo>
                  <a:pt x="16200" y="11006"/>
                  <a:pt x="10800" y="11082"/>
                  <a:pt x="10800" y="11157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7678800" y="4514760"/>
            <a:ext cx="226368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Co-expression analysis of hub genes and Autophagy-related ge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4" descr="GSE28829"/>
          <p:cNvPicPr/>
          <p:nvPr/>
        </p:nvPicPr>
        <p:blipFill>
          <a:blip r:embed="rId1"/>
          <a:stretch/>
        </p:blipFill>
        <p:spPr>
          <a:xfrm>
            <a:off x="838080" y="2951280"/>
            <a:ext cx="4264200" cy="36558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" descr="C:\Users\kyzd2019\Desktop\jVenn_chart.pngjVenn_chart"/>
          <p:cNvPicPr/>
          <p:nvPr/>
        </p:nvPicPr>
        <p:blipFill>
          <a:blip r:embed="rId2"/>
          <a:stretch/>
        </p:blipFill>
        <p:spPr>
          <a:xfrm>
            <a:off x="6997680" y="3257640"/>
            <a:ext cx="4154400" cy="34480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3" descr=""/>
          <p:cNvPicPr/>
          <p:nvPr/>
        </p:nvPicPr>
        <p:blipFill>
          <a:blip r:embed="rId3"/>
          <a:srcRect l="0" t="0" r="0" b="76020"/>
          <a:stretch/>
        </p:blipFill>
        <p:spPr>
          <a:xfrm>
            <a:off x="316080" y="230040"/>
            <a:ext cx="6553080" cy="25894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>
            <a:off x="317160" y="295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"/>
          <p:cNvSpPr/>
          <p:nvPr/>
        </p:nvSpPr>
        <p:spPr>
          <a:xfrm>
            <a:off x="7499520" y="284004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3" descr="下载"/>
          <p:cNvPicPr/>
          <p:nvPr/>
        </p:nvPicPr>
        <p:blipFill>
          <a:blip r:embed="rId4"/>
          <a:stretch/>
        </p:blipFill>
        <p:spPr>
          <a:xfrm>
            <a:off x="7597800" y="403200"/>
            <a:ext cx="2954160" cy="2416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"/>
          <p:cNvSpPr/>
          <p:nvPr/>
        </p:nvSpPr>
        <p:spPr>
          <a:xfrm>
            <a:off x="7198920" y="2300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内容占位符 3" descr="Enrichment_heatmap_HeatmapSelectedGOParent"/>
          <p:cNvPicPr/>
          <p:nvPr/>
        </p:nvPicPr>
        <p:blipFill>
          <a:blip r:embed="rId1"/>
          <a:stretch/>
        </p:blipFill>
        <p:spPr>
          <a:xfrm>
            <a:off x="2467080" y="596880"/>
            <a:ext cx="8229600" cy="27655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" descr="Enrichment_heatmap_HeatmapSelectedGO"/>
          <p:cNvPicPr/>
          <p:nvPr/>
        </p:nvPicPr>
        <p:blipFill>
          <a:blip r:embed="rId2"/>
          <a:stretch/>
        </p:blipFill>
        <p:spPr>
          <a:xfrm>
            <a:off x="2467080" y="3568680"/>
            <a:ext cx="7532640" cy="197316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1"/>
          <p:cNvSpPr/>
          <p:nvPr/>
        </p:nvSpPr>
        <p:spPr>
          <a:xfrm>
            <a:off x="2096640" y="320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2104560" y="3362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内容占位符 6" descr="new-string_interactions_short.tsv_Degree_top10"/>
          <p:cNvPicPr/>
          <p:nvPr/>
        </p:nvPicPr>
        <p:blipFill>
          <a:blip r:embed="rId1"/>
          <a:srcRect l="15842" t="17566" r="26373" b="20506"/>
          <a:stretch/>
        </p:blipFill>
        <p:spPr>
          <a:xfrm>
            <a:off x="6035760" y="2211480"/>
            <a:ext cx="4155840" cy="28969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" descr="string_normal_image"/>
          <p:cNvPicPr/>
          <p:nvPr/>
        </p:nvPicPr>
        <p:blipFill>
          <a:blip r:embed="rId2"/>
          <a:srcRect l="21541" t="0" r="0" b="33426"/>
          <a:stretch/>
        </p:blipFill>
        <p:spPr>
          <a:xfrm>
            <a:off x="1187280" y="1531800"/>
            <a:ext cx="5708880" cy="43848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"/>
          <p:cNvSpPr/>
          <p:nvPr/>
        </p:nvSpPr>
        <p:spPr>
          <a:xfrm>
            <a:off x="1188360" y="1792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5954040" y="17924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内容占位符 5" descr="network.csv_2"/>
          <p:cNvPicPr/>
          <p:nvPr/>
        </p:nvPicPr>
        <p:blipFill>
          <a:blip r:embed="rId1"/>
          <a:srcRect l="0" t="0" r="27163" b="0"/>
          <a:stretch/>
        </p:blipFill>
        <p:spPr>
          <a:xfrm>
            <a:off x="6715080" y="1143000"/>
            <a:ext cx="547704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1"/>
          <p:cNvSpPr/>
          <p:nvPr/>
        </p:nvSpPr>
        <p:spPr>
          <a:xfrm>
            <a:off x="813960" y="777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"/>
          <p:cNvSpPr/>
          <p:nvPr/>
        </p:nvSpPr>
        <p:spPr>
          <a:xfrm>
            <a:off x="6716160" y="7779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" descr="46c014f8b6d1b0ec02769844ae3d9a43"/>
          <p:cNvPicPr/>
          <p:nvPr/>
        </p:nvPicPr>
        <p:blipFill>
          <a:blip r:embed="rId2"/>
          <a:stretch/>
        </p:blipFill>
        <p:spPr>
          <a:xfrm>
            <a:off x="569880" y="1860480"/>
            <a:ext cx="6145200" cy="35528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2637720" y="16574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SE34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99" descr=""/>
          <p:cNvPicPr/>
          <p:nvPr/>
        </p:nvPicPr>
        <p:blipFill>
          <a:blip r:embed="rId1"/>
          <a:srcRect l="0" t="49688" r="0" b="0"/>
          <a:stretch/>
        </p:blipFill>
        <p:spPr>
          <a:xfrm>
            <a:off x="1649520" y="476280"/>
            <a:ext cx="377172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" descr="ITGB1"/>
          <p:cNvPicPr/>
          <p:nvPr/>
        </p:nvPicPr>
        <p:blipFill>
          <a:blip r:embed="rId2"/>
          <a:srcRect l="0" t="49846" r="0" b="148"/>
          <a:stretch/>
        </p:blipFill>
        <p:spPr>
          <a:xfrm>
            <a:off x="5889600" y="47628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01" descr=""/>
          <p:cNvPicPr/>
          <p:nvPr/>
        </p:nvPicPr>
        <p:blipFill>
          <a:blip r:embed="rId3"/>
          <a:srcRect l="0" t="49846" r="0" b="0"/>
          <a:stretch/>
        </p:blipFill>
        <p:spPr>
          <a:xfrm>
            <a:off x="1649520" y="3510000"/>
            <a:ext cx="4062240" cy="28796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02" descr=""/>
          <p:cNvPicPr/>
          <p:nvPr/>
        </p:nvPicPr>
        <p:blipFill>
          <a:blip r:embed="rId4"/>
          <a:srcRect l="0" t="49695" r="0" b="0"/>
          <a:stretch/>
        </p:blipFill>
        <p:spPr>
          <a:xfrm>
            <a:off x="5889600" y="3510000"/>
            <a:ext cx="3835440" cy="28796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"/>
          <p:cNvSpPr/>
          <p:nvPr/>
        </p:nvSpPr>
        <p:spPr>
          <a:xfrm>
            <a:off x="1493280" y="412920"/>
            <a:ext cx="308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5712840" y="412920"/>
            <a:ext cx="299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"/>
          <p:cNvSpPr/>
          <p:nvPr/>
        </p:nvSpPr>
        <p:spPr>
          <a:xfrm>
            <a:off x="1593360" y="3413160"/>
            <a:ext cx="308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"/>
          <p:cNvSpPr/>
          <p:nvPr/>
        </p:nvSpPr>
        <p:spPr>
          <a:xfrm>
            <a:off x="5770080" y="3422520"/>
            <a:ext cx="308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460600" y="1160640"/>
          <a:ext cx="7270920" cy="4719600"/>
        </p:xfrm>
        <a:graphic>
          <a:graphicData uri="http://schemas.openxmlformats.org/drawingml/2006/table">
            <a:tbl>
              <a:tblPr/>
              <a:tblGrid>
                <a:gridCol w="996840"/>
                <a:gridCol w="835200"/>
                <a:gridCol w="593640"/>
                <a:gridCol w="833400"/>
                <a:gridCol w="712800"/>
                <a:gridCol w="733320"/>
                <a:gridCol w="522360"/>
                <a:gridCol w="898560"/>
                <a:gridCol w="1144800"/>
              </a:tblGrid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CI for EXP(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S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0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oronary heart dis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T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0.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.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9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TG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.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XCR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0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.8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8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NFSF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.9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S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2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schemic stro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TG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.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8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42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3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502.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XCR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1.5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S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schemic stro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TG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1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.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NFSF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4.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.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S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ypert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TG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0.9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3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6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iabe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T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1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TG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1.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.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yperlipem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NFSF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1.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文本框 99"/>
          <p:cNvSpPr/>
          <p:nvPr/>
        </p:nvSpPr>
        <p:spPr>
          <a:xfrm>
            <a:off x="2709720" y="622440"/>
            <a:ext cx="67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 1 The correlation analysis of DEARGs(CTSB, ITGB1, CXCR4, TNFSF10) and clin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内容占位符 3" descr=""/>
          <p:cNvPicPr/>
          <p:nvPr/>
        </p:nvPicPr>
        <p:blipFill>
          <a:blip r:embed="rId1"/>
          <a:stretch/>
        </p:blipFill>
        <p:spPr>
          <a:xfrm>
            <a:off x="1189080" y="1700280"/>
            <a:ext cx="10261440" cy="413712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1"/>
          <p:cNvSpPr/>
          <p:nvPr/>
        </p:nvSpPr>
        <p:spPr>
          <a:xfrm>
            <a:off x="1006560" y="2044800"/>
            <a:ext cx="59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/>
  <dc:description/>
  <dc:language>en-US</dc:language>
  <cp:lastModifiedBy>科研指导（生信SCI）</cp:lastModifiedBy>
  <dcterms:modified xsi:type="dcterms:W3CDTF">2022-03-02T08:57:26Z</dcterms:modified>
  <cp:revision>174</cp:revision>
  <dc:subject/>
  <dc:title>空白演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9DA898BF19247579CA58CC840329D05</vt:lpwstr>
  </property>
  <property fmtid="{D5CDD505-2E9C-101B-9397-08002B2CF9AE}" pid="3" name="KSOProductBuildVer">
    <vt:lpwstr>2052-11.1.0.11365</vt:lpwstr>
  </property>
</Properties>
</file>