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A57-C8B9-4A96-8625-46498E84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53C-3F72-434D-AD6C-39A33DC0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3FE-01C0-4357-8D8C-7A1CBEC6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9B4-C2E5-4DDF-BBCC-9E84E8BF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CDE-7EBB-452F-9CF8-9BBBDB60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6C5-30EA-461A-8002-A97F163A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B14-E5E9-44AC-94C2-900A804E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265-9E12-46DA-BC82-51DC365C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23C-3A16-4915-85B2-FFD43F82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AE9-E708-4249-B366-EB395000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96B-50B5-465C-8A7D-50C202EF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FF2-65E9-4719-8314-95FD410F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8A17-C06E-42EE-B0B1-41C68498F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9760" y="2759040"/>
            <a:ext cx="809784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9760" y="3305160"/>
            <a:ext cx="809784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9760" y="3857760"/>
            <a:ext cx="809784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9760" y="2216160"/>
            <a:ext cx="809784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44920" y="223668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44960" y="223668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77720" y="2236680"/>
            <a:ext cx="40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97760" y="2236680"/>
            <a:ext cx="53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77600" y="211284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lection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7200" y="2112840"/>
            <a:ext cx="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Virus strain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a,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5760" y="416556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 H5N1 viruses isolated in Egy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82000" y="4165560"/>
            <a:ext cx="25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81680" y="4165560"/>
            <a:ext cx="24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86320" y="1932120"/>
            <a:ext cx="75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tient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26480" y="2519280"/>
            <a:ext cx="7204680" cy="1581120"/>
            <a:chOff x="726480" y="2519280"/>
            <a:chExt cx="7204680" cy="1581120"/>
          </a:xfrm>
        </p:grpSpPr>
        <p:sp>
          <p:nvSpPr>
            <p:cNvPr id="56" name=""/>
            <p:cNvSpPr/>
            <p:nvPr/>
          </p:nvSpPr>
          <p:spPr>
            <a:xfrm>
              <a:off x="727920" y="3338640"/>
              <a:ext cx="12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Egypt/N04526/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7920" y="3065400"/>
              <a:ext cx="12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Egypt/N03434/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7920" y="3611520"/>
              <a:ext cx="12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Egypt/N04822/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7920" y="3884760"/>
              <a:ext cx="120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Egypt/N04979/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6480" y="2792520"/>
              <a:ext cx="163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duck/Egypt/099-NLQP/2009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79760" y="3065400"/>
              <a:ext cx="75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5 Apr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79760" y="2792520"/>
              <a:ext cx="61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Jan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80120" y="3611520"/>
              <a:ext cx="77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5 May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80120" y="3884760"/>
              <a:ext cx="77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1 May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80120" y="3338640"/>
              <a:ext cx="77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8 May 200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6480" y="2519280"/>
              <a:ext cx="172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/chicken/Egypt/RIMD12-3/200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79400" y="2519280"/>
              <a:ext cx="627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v 200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26920" y="306540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26920" y="361152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26920" y="3884760"/>
              <a:ext cx="24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5760" y="3338640"/>
              <a:ext cx="266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2920" y="30654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02560" y="36115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02560" y="38847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00400" y="3338640"/>
              <a:ext cx="24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81640" y="306540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1640" y="27925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81640" y="361152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81640" y="388476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81640" y="333864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81640" y="2519280"/>
              <a:ext cx="25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81680" y="306540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81680" y="279252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81680" y="361152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81680" y="388476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81680" y="333864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81680" y="2519280"/>
              <a:ext cx="24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04680" y="2519280"/>
              <a:ext cx="38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04680" y="2792520"/>
              <a:ext cx="38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04320" y="306540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04320" y="333864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04320" y="361152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04320" y="3884760"/>
              <a:ext cx="52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605040" y="211284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960" y="2476440"/>
            <a:ext cx="809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960" y="1889280"/>
            <a:ext cx="809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960" y="4413240"/>
            <a:ext cx="809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960" y="4149720"/>
            <a:ext cx="809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4840" y="22129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91240" y="2212920"/>
            <a:ext cx="29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3960" y="1484280"/>
            <a:ext cx="47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able S3. Properties of H5N1 influenza viruses in sublineag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440" y="4537080"/>
            <a:ext cx="558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quence data from the National Center for Biotechnology Information database in addition to our sequen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7760" y="5170320"/>
            <a:ext cx="95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5 number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920" y="4959360"/>
            <a:ext cx="121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tient age in yea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8680" y="1946160"/>
            <a:ext cx="150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Amino acid at HA residue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d,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7760" y="4748040"/>
            <a:ext cx="263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rus strains are listed in order of collection da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3800" y="5381640"/>
            <a:ext cx="533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y amino acid substitutions for human-type receptor recognition found in avian isolates are underlin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5:02:37Z</dcterms:created>
  <dc:creator>nabe</dc:creator>
  <dc:description/>
  <dc:language>en-US</dc:language>
  <cp:lastModifiedBy>nabe</cp:lastModifiedBy>
  <dcterms:modified xsi:type="dcterms:W3CDTF">2011-03-25T08:10:57Z</dcterms:modified>
  <cp:revision>15</cp:revision>
  <dc:subject/>
  <dc:title>スライド 1</dc:title>
</cp:coreProperties>
</file>