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B2D-18DF-49CC-9E8D-1C260383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FE9-C2DE-4D66-81D4-D68859D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F10-3732-4A8A-95E2-BDB98B1D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283-6645-4F8F-8FCA-AA3D36D7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663-0722-4443-A06B-8673270F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E62-63E9-41AD-81AC-E73DDB0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312-AD6F-4DB0-9B3F-0F040EC6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004-2302-46AD-8D84-C94C93FB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636-E33A-4427-981A-ADAEEC5A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9F4-5966-432A-9721-A499DFC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8D8-5CC2-4674-8089-50F969E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631-753F-4A5F-8C35-CBEC5EC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5F16-0009-45EA-935A-E3B2CD2C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9800" y="2986200"/>
            <a:ext cx="82774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9800" y="3522600"/>
            <a:ext cx="82774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4075200"/>
            <a:ext cx="82774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9800" y="2443320"/>
            <a:ext cx="827748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3120" y="246384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38200" y="2463840"/>
            <a:ext cx="40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57880" y="246384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8920" y="234936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ection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03560" y="246384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6800" y="217800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716200"/>
            <a:ext cx="827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135160"/>
            <a:ext cx="827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362480"/>
            <a:ext cx="8277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86360"/>
            <a:ext cx="82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05320" y="24400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7080" y="2440080"/>
            <a:ext cx="304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3240" y="246384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19640" y="2746440"/>
            <a:ext cx="7663680" cy="1307880"/>
            <a:chOff x="719640" y="2746440"/>
            <a:chExt cx="7663680" cy="1307880"/>
          </a:xfrm>
        </p:grpSpPr>
        <p:sp>
          <p:nvSpPr>
            <p:cNvPr id="59" name=""/>
            <p:cNvSpPr/>
            <p:nvPr/>
          </p:nvSpPr>
          <p:spPr>
            <a:xfrm>
              <a:off x="720000" y="356544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4527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0000" y="329256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3450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0000" y="383868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5056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9640" y="3019320"/>
              <a:ext cx="123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2752/2009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1080" y="329256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 Apr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1080" y="301932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4 Mar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21080" y="383868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6 Jun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1440" y="3565440"/>
              <a:ext cx="77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8 May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0000" y="274644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0606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21080" y="274644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07 Feb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82720" y="329256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82720" y="383868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2720" y="3565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46840" y="32925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46840" y="38386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11320" y="329256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e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11320" y="301932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e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11320" y="383868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e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1320" y="356544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e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1320" y="2746440"/>
              <a:ext cx="583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le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02120" y="32925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02120" y="30193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2120" y="38386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02120" y="3565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2120" y="27464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4440" y="274644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4440" y="301932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4440" y="329256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74440" y="356544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74440" y="383868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2720" y="301932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46840" y="30193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82720" y="27464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46840" y="2746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46840" y="35654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81440" y="329256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1440" y="301932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1440" y="383868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1440" y="356544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81440" y="274644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73800" y="329256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73800" y="301932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73800" y="383868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3800" y="356544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73800" y="2746440"/>
              <a:ext cx="20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175240" y="246384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7840" y="4110120"/>
            <a:ext cx="197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H5N1 viruses isolated in Eg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1680" y="411012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02120" y="411012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1800" y="41101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3800" y="411012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040" y="1716120"/>
            <a:ext cx="48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able S5. Properties of H5N1 influenza viruses in sublineage B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120" y="2349360"/>
            <a:ext cx="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Virus strain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38600" y="2178000"/>
            <a:ext cx="14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mino acid at HA residu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74800" y="234936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720" y="4514760"/>
            <a:ext cx="558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quence data from the National Center for Biotechnology Information database in addition to our seque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040" y="5157720"/>
            <a:ext cx="95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5 numb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560" y="4943520"/>
            <a:ext cx="121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age in yea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1040" y="4729320"/>
            <a:ext cx="263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us strains are listed in order of collection da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5:02:37Z</dcterms:created>
  <dc:creator>nabe</dc:creator>
  <dc:description/>
  <dc:language>en-US</dc:language>
  <cp:lastModifiedBy>nabe</cp:lastModifiedBy>
  <dcterms:modified xsi:type="dcterms:W3CDTF">2011-03-25T08:11:57Z</dcterms:modified>
  <cp:revision>15</cp:revision>
  <dc:subject/>
  <dc:title>スライド 1</dc:title>
</cp:coreProperties>
</file>