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28F-ED6E-49A9-B1E0-C7EEE155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BE5-6312-4370-8BCE-5B823A3E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DCA-E6F4-421E-A3F8-4EC30C59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9B2-8A0C-4BAE-A8F9-2ADCE987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DAD-F03D-4E5B-8D7A-8E93C19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14B-67AE-4957-9DD1-A33E831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258-17E3-4AFE-91BA-9ADBFDA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700-8483-4507-890A-12909A9E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A97-F468-4AF5-BCA6-AF5E803E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B6F-1D15-45CD-AD08-72EA534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C8B-EEFF-4FF3-BC85-BAFB5B5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BB1-23CB-4642-B571-1014A2E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11D7-B3D1-42EC-B0FB-538ED57F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5800" y="128268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5800" y="1714680"/>
            <a:ext cx="82774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5800" y="214632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57796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5800" y="300996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5800" y="3443400"/>
            <a:ext cx="82774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387504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5800" y="4307040"/>
            <a:ext cx="82774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800" y="473868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5800" y="5170320"/>
            <a:ext cx="827748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7600" y="814320"/>
            <a:ext cx="8277120" cy="2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7440" y="83016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28920" y="83016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96880" y="830160"/>
            <a:ext cx="40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2800" y="83016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5280" y="72072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ection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7040" y="5540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800" y="1044720"/>
            <a:ext cx="82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800" y="528480"/>
            <a:ext cx="82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5800" y="5386320"/>
            <a:ext cx="82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5800" y="5167440"/>
            <a:ext cx="82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41680" y="809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02480" y="809640"/>
            <a:ext cx="288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7800" y="8269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200" y="279252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0605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00" y="236052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0585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560" y="4305240"/>
            <a:ext cx="117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4316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00" y="214488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0001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6480" y="2576520"/>
            <a:ext cx="177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chicken/Egypt/092-NLQP/2009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7800" y="4303800"/>
            <a:ext cx="77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9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7800" y="2792520"/>
            <a:ext cx="72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3 Feb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4087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 Ap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7800" y="25765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8160" y="214488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 Ja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8160" y="236052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 Jan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6200" y="43038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16200" y="40878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16200" y="2144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880" y="4303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6240" y="40878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430380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7925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408780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25765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21448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23605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27480" y="430380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27480" y="279252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27480" y="408780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7480" y="257652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27480" y="214488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27480" y="236052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20520" y="236052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20520" y="279252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20520" y="430380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20520" y="21448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20520" y="408780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20520" y="25765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00" y="408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3438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00" y="34416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2039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00" y="4521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4395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00" y="36576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3228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7200" y="38736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3272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00" y="300996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1310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00" y="495468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4396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60" y="1281240"/>
            <a:ext cx="124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duck/Egypt/R5/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6120" y="149688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1394-NAMRU3/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6120" y="171288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2289-NAMRU3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6120" y="192888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2546-NAMRU3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6120" y="106524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0636-NAMRU3/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6120" y="3225960"/>
            <a:ext cx="172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goose/Egypt/0929-NLQP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00" y="4737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/Egypt/N04394/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7800" y="4519440"/>
            <a:ext cx="77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15840" y="4519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880" y="45194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45194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27480" y="45194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20520" y="45194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7800" y="36561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 Ma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15840" y="3656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880" y="3656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365616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27480" y="365616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20520" y="36561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7440" y="3871800"/>
            <a:ext cx="75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Ap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15840" y="387180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880" y="3871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387180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27480" y="387180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20520" y="387180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800" y="30081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 Feb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15840" y="3008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880" y="3008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300816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27480" y="300816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20520" y="30081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7800" y="344016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3 Ma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15840" y="344016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880" y="3440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344016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27480" y="344016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20520" y="344016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800" y="4952880"/>
            <a:ext cx="77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16200" y="4952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88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9528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27480" y="495288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20520" y="49528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7800" y="128124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 Feb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2812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27480" y="12812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20520" y="12812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7440" y="14968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16200" y="1496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6240" y="14968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14968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27480" y="149688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20520" y="14968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7800" y="17128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2 Ma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6200" y="1712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6240" y="17128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17128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27480" y="171288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20520" y="17128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7800" y="192888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8 Mar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15840" y="192888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880" y="1928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19288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27480" y="192888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20520" y="19288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7800" y="10652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n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16560" y="101448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6240" y="10652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10652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7480" y="10652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20520" y="10652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7080" y="322416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b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000" y="322416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27480" y="322416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20520" y="32241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7800" y="4735440"/>
            <a:ext cx="77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 May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15840" y="47354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880" y="47354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47354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27480" y="47354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20520" y="47354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15840" y="279252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880" y="2792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880" y="214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360" y="43038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56360" y="279252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56360" y="40878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56360" y="257652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56360" y="2144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360" y="236052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360" y="451944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6360" y="365616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6360" y="387180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360" y="300816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56360" y="344016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56360" y="4952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56360" y="128124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56360" y="1496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56360" y="1712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6360" y="192888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360" y="106524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360" y="322416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360" y="473544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16200" y="2360520"/>
            <a:ext cx="24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880" y="2360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360" y="189000"/>
            <a:ext cx="481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able S4. Properties of H5N1 influenza viruses in sublineage B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6480" y="720720"/>
            <a:ext cx="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Virus strain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000" y="517032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27840" y="517032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75440" y="51703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5040" y="5170320"/>
            <a:ext cx="197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H5N1 viruses isolated in Eg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20880" y="72072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4520" y="5502240"/>
            <a:ext cx="558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quence data from the National Center for Biotechnology Information database in addition to our seque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8840" y="6118200"/>
            <a:ext cx="95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5 numb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000" y="5913360"/>
            <a:ext cx="121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age in yea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25280" y="566640"/>
            <a:ext cx="150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mino acid at HA residu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d,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" y="6527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8840" y="5708520"/>
            <a:ext cx="263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us strains are listed in order of collection da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4880" y="6323040"/>
            <a:ext cx="533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y amino acid substitutions for human-type receptor recognition found in avian isolates are underlin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5:02:37Z</dcterms:created>
  <dc:creator>nabe</dc:creator>
  <dc:description/>
  <dc:language>en-US</dc:language>
  <cp:lastModifiedBy>nabe</cp:lastModifiedBy>
  <dcterms:modified xsi:type="dcterms:W3CDTF">2011-03-25T08:11:28Z</dcterms:modified>
  <cp:revision>15</cp:revision>
  <dc:subject/>
  <dc:title>スライド 1</dc:title>
</cp:coreProperties>
</file>