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677545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A767-1659-4AD6-A268-2AAB983E3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99B2-B739-4866-AFFB-54BE632B4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AAA9-D623-4484-8638-CECE5B198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E46C-26D9-49A1-ADCF-BF5CA29A4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E64B-0851-4EFA-9AE1-68701CF59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C06F-77D9-464E-8CE0-EA0416A28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5548-35A2-48B8-B6A5-4E904B092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3B2F-EE6C-434B-97D0-EAA24FFB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0E8D-B79F-4569-8B8F-BB66E118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765D-1EAB-48D2-BF25-A4A31110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9636-D87F-4225-AD45-219D2070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35A0-C8D2-4C33-B9DB-01962F51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0A8E9-8353-4624-B3EA-C94B4BC32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3360" y="7780320"/>
            <a:ext cx="6118200" cy="162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33360" y="5684760"/>
            <a:ext cx="6118200" cy="162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33360" y="1647720"/>
            <a:ext cx="6118200" cy="162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3360" y="1843200"/>
            <a:ext cx="6118200" cy="161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33360" y="2367000"/>
            <a:ext cx="6118200" cy="162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3360" y="2716200"/>
            <a:ext cx="6118200" cy="162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33360" y="3065400"/>
            <a:ext cx="6118200" cy="162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3360" y="3589200"/>
            <a:ext cx="6118200" cy="162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3360" y="3938760"/>
            <a:ext cx="6118200" cy="161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33360" y="4287960"/>
            <a:ext cx="6118200" cy="161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3360" y="4637160"/>
            <a:ext cx="6118200" cy="162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3360" y="1476360"/>
            <a:ext cx="6118200" cy="162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33360" y="2017800"/>
            <a:ext cx="6118200" cy="162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3360" y="2541600"/>
            <a:ext cx="6118200" cy="162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3360" y="2890800"/>
            <a:ext cx="6118200" cy="162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33360" y="3240000"/>
            <a:ext cx="6118200" cy="162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33360" y="3763800"/>
            <a:ext cx="6118200" cy="162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3360" y="4113360"/>
            <a:ext cx="6118200" cy="161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3360" y="4462560"/>
            <a:ext cx="6118200" cy="162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3360" y="4811760"/>
            <a:ext cx="6118200" cy="162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33360" y="5335560"/>
            <a:ext cx="6118200" cy="162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33360" y="5859360"/>
            <a:ext cx="6118200" cy="162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3360" y="6208560"/>
            <a:ext cx="6118200" cy="162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3360" y="6558120"/>
            <a:ext cx="6118200" cy="161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3360" y="7081920"/>
            <a:ext cx="6118200" cy="162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3360" y="7431120"/>
            <a:ext cx="6118200" cy="162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3360" y="5160960"/>
            <a:ext cx="6118200" cy="162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3360" y="5510160"/>
            <a:ext cx="6118200" cy="162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3360" y="6033960"/>
            <a:ext cx="6118200" cy="162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3360" y="6383160"/>
            <a:ext cx="6118200" cy="162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3360" y="6907320"/>
            <a:ext cx="6118200" cy="161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3360" y="7256520"/>
            <a:ext cx="6118200" cy="162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3360" y="7605720"/>
            <a:ext cx="6118200" cy="162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351320" y="6708600"/>
            <a:ext cx="79236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351320" y="6535800"/>
            <a:ext cx="792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.0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332160" y="6535800"/>
            <a:ext cx="792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2.75 ± 2.47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47720" y="6535800"/>
            <a:ext cx="1465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G/D1</a:t>
            </a:r>
            <a:r>
              <a:rPr b="0" lang="en-US" sz="700" spc="-1" strike="noStrike" baseline="-25000">
                <a:solidFill>
                  <a:srgbClr val="000000"/>
                </a:solidFill>
                <a:latin typeface="Arial"/>
              </a:rPr>
              <a:t>S120N,129</a:t>
            </a:r>
            <a:r>
              <a:rPr b="0" lang="en-US" sz="7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351320" y="6361200"/>
            <a:ext cx="792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.0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332160" y="6361200"/>
            <a:ext cx="792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1.23 ± 3.29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47720" y="6361200"/>
            <a:ext cx="976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G/D1</a:t>
            </a:r>
            <a:r>
              <a:rPr b="0" lang="en-US" sz="700" spc="-1" strike="noStrike" baseline="-25000">
                <a:solidFill>
                  <a:srgbClr val="000000"/>
                </a:solidFill>
                <a:latin typeface="Arial"/>
              </a:rPr>
              <a:t>I151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351320" y="6186600"/>
            <a:ext cx="792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.0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32160" y="6186600"/>
            <a:ext cx="792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.31 ± 1.9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47720" y="6186600"/>
            <a:ext cx="976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G/D1</a:t>
            </a:r>
            <a:r>
              <a:rPr b="0" lang="en-US" sz="700" spc="-1" strike="noStrike" baseline="-25000">
                <a:solidFill>
                  <a:srgbClr val="000000"/>
                </a:solidFill>
                <a:latin typeface="Arial"/>
              </a:rPr>
              <a:t>129</a:t>
            </a:r>
            <a:r>
              <a:rPr b="0" lang="en-US" sz="7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1320" y="6012000"/>
            <a:ext cx="792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.0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32160" y="6012000"/>
            <a:ext cx="792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5.75 ± 2.25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47720" y="6012000"/>
            <a:ext cx="976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G/D1</a:t>
            </a:r>
            <a:r>
              <a:rPr b="0" lang="en-US" sz="700" spc="-1" strike="noStrike" baseline="-25000">
                <a:solidFill>
                  <a:srgbClr val="000000"/>
                </a:solidFill>
                <a:latin typeface="Arial"/>
              </a:rPr>
              <a:t>S120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136600" y="6708600"/>
            <a:ext cx="48744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332160" y="6708600"/>
            <a:ext cx="79200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105440" y="6676920"/>
            <a:ext cx="79200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603760" y="6535800"/>
            <a:ext cx="576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274.57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603760" y="6361200"/>
            <a:ext cx="576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123.00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03760" y="6186600"/>
            <a:ext cx="576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31.0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603760" y="6012000"/>
            <a:ext cx="576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575.8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603760" y="6710400"/>
            <a:ext cx="576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603760" y="6012000"/>
            <a:ext cx="576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332160" y="6012000"/>
            <a:ext cx="792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47720" y="5837400"/>
            <a:ext cx="488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03760" y="5664240"/>
            <a:ext cx="576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.99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351320" y="5662440"/>
            <a:ext cx="79236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.95 ± 1.30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332160" y="5662440"/>
            <a:ext cx="79200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4.83 ± 0.8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47720" y="5662440"/>
            <a:ext cx="146520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G/D1</a:t>
            </a:r>
            <a:r>
              <a:rPr b="0" lang="en-US" sz="700" spc="-1" strike="noStrike" baseline="-25000">
                <a:solidFill>
                  <a:srgbClr val="000000"/>
                </a:solidFill>
                <a:latin typeface="Arial"/>
              </a:rPr>
              <a:t>Q192H,S235P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603760" y="5489640"/>
            <a:ext cx="576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1.2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51320" y="5487840"/>
            <a:ext cx="79236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.56 ± 0.14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51320" y="6012000"/>
            <a:ext cx="792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332160" y="5487840"/>
            <a:ext cx="79200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7.33 ± 1.27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47720" y="5487840"/>
            <a:ext cx="97632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G/D1</a:t>
            </a:r>
            <a:r>
              <a:rPr b="0" lang="en-US" sz="700" spc="-1" strike="noStrike" baseline="-25000">
                <a:solidFill>
                  <a:srgbClr val="000000"/>
                </a:solidFill>
                <a:latin typeface="Arial"/>
              </a:rPr>
              <a:t>S235P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603760" y="5315040"/>
            <a:ext cx="576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.06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51320" y="5315040"/>
            <a:ext cx="792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.22 ± 0.73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32160" y="5315040"/>
            <a:ext cx="792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2.94 ± 2.60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47720" y="5315040"/>
            <a:ext cx="976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G/D1</a:t>
            </a:r>
            <a:r>
              <a:rPr b="0" lang="en-US" sz="700" spc="-1" strike="noStrike" baseline="-25000">
                <a:solidFill>
                  <a:srgbClr val="000000"/>
                </a:solidFill>
                <a:latin typeface="Arial"/>
              </a:rPr>
              <a:t>Q192H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632560" y="5140440"/>
            <a:ext cx="576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(1458.22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79760" y="5140440"/>
            <a:ext cx="792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(&lt;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.01)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360600" y="5140440"/>
            <a:ext cx="792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(14.58 ± 3.65)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36600" y="4965840"/>
            <a:ext cx="487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23960" y="5140440"/>
            <a:ext cx="6634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(rEG/D1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603760" y="4965840"/>
            <a:ext cx="576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351320" y="4965840"/>
            <a:ext cx="792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332160" y="4965840"/>
            <a:ext cx="792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03760" y="4791240"/>
            <a:ext cx="576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.9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51320" y="4791240"/>
            <a:ext cx="792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.81 ± 0.64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32160" y="4791240"/>
            <a:ext cx="792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1.03 ± 4.3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647720" y="4791240"/>
            <a:ext cx="976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G/D1-EG/203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03760" y="4616280"/>
            <a:ext cx="57636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.97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351320" y="4616280"/>
            <a:ext cx="79236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.41 ± 1.47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32160" y="4616280"/>
            <a:ext cx="79200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.18 ± 2.97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47720" y="4616280"/>
            <a:ext cx="97632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G/D1-EG/092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03760" y="4443480"/>
            <a:ext cx="576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.65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351320" y="4441680"/>
            <a:ext cx="79236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.84 ± 0.33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2160" y="4441680"/>
            <a:ext cx="79200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.37 ± 1.57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47720" y="4441680"/>
            <a:ext cx="97632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G/D1-EG/482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603760" y="4268880"/>
            <a:ext cx="576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.27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351320" y="4267080"/>
            <a:ext cx="79236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.74 ± 1.98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332160" y="4267080"/>
            <a:ext cx="79200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5.55 ± 3.29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47720" y="4267080"/>
            <a:ext cx="97632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G/D1-EG/1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603760" y="4094280"/>
            <a:ext cx="576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069.06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351320" y="4094280"/>
            <a:ext cx="792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&lt;0.0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332160" y="4094280"/>
            <a:ext cx="792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0.69 ± 5.16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47720" y="4094280"/>
            <a:ext cx="976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G/D1-EG/2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03760" y="3919680"/>
            <a:ext cx="576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024.09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51320" y="3919680"/>
            <a:ext cx="792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&lt;0.0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32160" y="3919680"/>
            <a:ext cx="792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0.24 ± 4.95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647720" y="3919680"/>
            <a:ext cx="976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G/D1-EG/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03760" y="3745080"/>
            <a:ext cx="576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158.78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351320" y="3745080"/>
            <a:ext cx="792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&lt;0.0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332160" y="3745080"/>
            <a:ext cx="792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1.59 ± 1.24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47720" y="3745080"/>
            <a:ext cx="976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G/D1-EG/C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603760" y="3570120"/>
            <a:ext cx="57636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458.2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351320" y="3570120"/>
            <a:ext cx="79236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&lt;0.0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332160" y="3570120"/>
            <a:ext cx="79200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4.58 ± 3.65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47720" y="3570120"/>
            <a:ext cx="48888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G/D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603760" y="3397320"/>
            <a:ext cx="576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351320" y="3395520"/>
            <a:ext cx="79236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32160" y="3395520"/>
            <a:ext cx="79200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47560" y="3570120"/>
            <a:ext cx="97632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combinant viru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603760" y="3222720"/>
            <a:ext cx="576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.33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351320" y="3220920"/>
            <a:ext cx="79236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7.48 ± 1.94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32160" y="3220920"/>
            <a:ext cx="79200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7.45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±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.80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47720" y="3220920"/>
            <a:ext cx="48888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G/1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603760" y="3048120"/>
            <a:ext cx="576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343.20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351320" y="3046320"/>
            <a:ext cx="792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&lt;0.0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32160" y="3046320"/>
            <a:ext cx="792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3.43 ± 2.08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47720" y="3046320"/>
            <a:ext cx="488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G/2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03760" y="2873520"/>
            <a:ext cx="576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351.99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51320" y="2873520"/>
            <a:ext cx="792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&lt;0.0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332160" y="2873520"/>
            <a:ext cx="792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3.52 ± 4.63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647720" y="2873520"/>
            <a:ext cx="488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G/2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603760" y="2698920"/>
            <a:ext cx="576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389.46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351320" y="2698920"/>
            <a:ext cx="792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&lt;0.0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332160" y="2698920"/>
            <a:ext cx="792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3.89 ± 2.5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47720" y="2698920"/>
            <a:ext cx="488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G/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03760" y="2523960"/>
            <a:ext cx="57636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28.60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351320" y="2523960"/>
            <a:ext cx="79236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&lt;0.0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332160" y="2523960"/>
            <a:ext cx="79200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.29 ± 0.60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647720" y="2523960"/>
            <a:ext cx="48888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G/C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03760" y="2349360"/>
            <a:ext cx="57636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432.19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351320" y="2349360"/>
            <a:ext cx="79236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&lt;0.0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332160" y="2349360"/>
            <a:ext cx="79200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4.32 ± 1.8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647720" y="2349360"/>
            <a:ext cx="48888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G/D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603760" y="2174760"/>
            <a:ext cx="57636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351320" y="2174760"/>
            <a:ext cx="79236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332160" y="2174760"/>
            <a:ext cx="79200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47560" y="2349360"/>
            <a:ext cx="97632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solated viru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03760" y="2000160"/>
            <a:ext cx="576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45.83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351320" y="2000160"/>
            <a:ext cx="792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.06 ± 0.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332160" y="2000160"/>
            <a:ext cx="792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2.47 ± 3.7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647720" y="2000160"/>
            <a:ext cx="152712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/Duck/Hong Kong820/80 (H5N3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03760" y="1825560"/>
            <a:ext cx="576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.0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351320" y="1825560"/>
            <a:ext cx="792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9.95 ± 2.49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332160" y="1825560"/>
            <a:ext cx="792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.11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±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.15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47720" y="1825560"/>
            <a:ext cx="123840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/Japan/434/2003 (H3N2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26000" y="1650960"/>
            <a:ext cx="182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647720" y="1650960"/>
            <a:ext cx="488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47560" y="1825560"/>
            <a:ext cx="831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ntrol viru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302080" y="1536840"/>
            <a:ext cx="878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Relative value</a:t>
            </a:r>
            <a:r>
              <a:rPr b="0" lang="ja-JP" sz="7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59400" y="1636560"/>
            <a:ext cx="58428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,6 S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05440" y="1347840"/>
            <a:ext cx="534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419640" y="1636560"/>
            <a:ext cx="70452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,3 S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76240" y="3395520"/>
            <a:ext cx="48744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04960" y="2174760"/>
            <a:ext cx="48744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3360" y="2192400"/>
            <a:ext cx="6118200" cy="162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33360" y="3414600"/>
            <a:ext cx="6118200" cy="162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33360" y="4986360"/>
            <a:ext cx="6118200" cy="162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33360" y="6732720"/>
            <a:ext cx="6118200" cy="161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33360" y="1838160"/>
            <a:ext cx="6120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46480" y="1459080"/>
            <a:ext cx="20145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Association constant (</a:t>
            </a:r>
            <a:r>
              <a:rPr b="0" i="1" lang="ja-JP" sz="7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ja-JP" sz="7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ja-JP" sz="7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ja-JP" sz="7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 sialic acid)</a:t>
            </a:r>
            <a:r>
              <a:rPr b="0" lang="ja-JP" sz="700" spc="-1" strike="noStrike" baseline="30000">
                <a:solidFill>
                  <a:srgbClr val="000000"/>
                </a:solidFill>
                <a:latin typeface="Arial"/>
              </a:rPr>
              <a:t>a,b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33360" y="1465200"/>
            <a:ext cx="6120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647720" y="1536840"/>
            <a:ext cx="831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ru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343320" y="1647720"/>
            <a:ext cx="19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33360" y="7950240"/>
            <a:ext cx="6120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351320" y="6883560"/>
            <a:ext cx="792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.16 ±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.0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332160" y="6883560"/>
            <a:ext cx="792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2.80 ± 1.17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647720" y="6883560"/>
            <a:ext cx="1465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G/D1</a:t>
            </a:r>
            <a:r>
              <a:rPr b="0" lang="en-US" sz="700" spc="-1" strike="noStrike" baseline="-25000">
                <a:solidFill>
                  <a:srgbClr val="000000"/>
                </a:solidFill>
                <a:latin typeface="Arial"/>
              </a:rPr>
              <a:t>S120N,129</a:t>
            </a:r>
            <a:r>
              <a:rPr b="0" lang="en-US" sz="7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700" spc="-1" strike="noStrike" baseline="-25000">
                <a:solidFill>
                  <a:srgbClr val="000000"/>
                </a:solidFill>
                <a:latin typeface="Arial"/>
              </a:rPr>
              <a:t>,I151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603760" y="6883560"/>
            <a:ext cx="576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.48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351320" y="6710400"/>
            <a:ext cx="792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.27 ± 1.10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332160" y="6710400"/>
            <a:ext cx="792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4.22 ± 1.83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647720" y="6710400"/>
            <a:ext cx="1465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G/D1</a:t>
            </a:r>
            <a:r>
              <a:rPr b="0" lang="en-US" sz="700" spc="-1" strike="noStrike" baseline="-25000">
                <a:solidFill>
                  <a:srgbClr val="000000"/>
                </a:solidFill>
                <a:latin typeface="Arial"/>
              </a:rPr>
              <a:t>129</a:t>
            </a:r>
            <a:r>
              <a:rPr b="0" lang="en-US" sz="7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700" spc="-1" strike="noStrike" baseline="-25000">
                <a:solidFill>
                  <a:srgbClr val="000000"/>
                </a:solidFill>
                <a:latin typeface="Arial"/>
              </a:rPr>
              <a:t>, I151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603760" y="6710400"/>
            <a:ext cx="576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.33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603760" y="7756560"/>
            <a:ext cx="5763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.65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351320" y="7756560"/>
            <a:ext cx="7923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.08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± 0.4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332160" y="7756560"/>
            <a:ext cx="792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8.16 ± 1.3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628640" y="7756560"/>
            <a:ext cx="1871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G/D1</a:t>
            </a:r>
            <a:r>
              <a:rPr b="0" lang="en-US" sz="700" spc="-1" strike="noStrike" baseline="-25000">
                <a:solidFill>
                  <a:srgbClr val="000000"/>
                </a:solidFill>
                <a:latin typeface="Arial"/>
              </a:rPr>
              <a:t>S120N,129</a:t>
            </a:r>
            <a:r>
              <a:rPr b="0" lang="en-US" sz="7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700" spc="-1" strike="noStrike" baseline="-25000">
                <a:solidFill>
                  <a:srgbClr val="000000"/>
                </a:solidFill>
                <a:latin typeface="Arial"/>
              </a:rPr>
              <a:t>,I151T,V210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603760" y="7581960"/>
            <a:ext cx="5763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.07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351320" y="7581960"/>
            <a:ext cx="7923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.70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± 1.0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332160" y="7581960"/>
            <a:ext cx="792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8.28 ± 0.27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647720" y="7581960"/>
            <a:ext cx="14652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G/D1</a:t>
            </a:r>
            <a:r>
              <a:rPr b="0" lang="en-US" sz="700" spc="-1" strike="noStrike" baseline="-25000">
                <a:solidFill>
                  <a:srgbClr val="000000"/>
                </a:solidFill>
                <a:latin typeface="Arial"/>
              </a:rPr>
              <a:t>129</a:t>
            </a:r>
            <a:r>
              <a:rPr b="0" lang="en-US" sz="7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700" spc="-1" strike="noStrike" baseline="-25000">
                <a:solidFill>
                  <a:srgbClr val="000000"/>
                </a:solidFill>
                <a:latin typeface="Arial"/>
              </a:rPr>
              <a:t>,I151T,V210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603760" y="7407360"/>
            <a:ext cx="5763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9.64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351320" y="7407360"/>
            <a:ext cx="7923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.40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± 0.8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332160" y="7407360"/>
            <a:ext cx="792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3.52 ± 1.23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647720" y="7407360"/>
            <a:ext cx="14652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G/D1</a:t>
            </a:r>
            <a:r>
              <a:rPr b="0" lang="en-US" sz="700" spc="-1" strike="noStrike" baseline="-25000">
                <a:solidFill>
                  <a:srgbClr val="000000"/>
                </a:solidFill>
                <a:latin typeface="Arial"/>
              </a:rPr>
              <a:t>S120N,V210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603760" y="7232760"/>
            <a:ext cx="5763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3.4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351320" y="7232760"/>
            <a:ext cx="7923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.31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±0.7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332160" y="7232760"/>
            <a:ext cx="792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7.58 ± 3.26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47720" y="7232760"/>
            <a:ext cx="9763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G/D1</a:t>
            </a:r>
            <a:r>
              <a:rPr b="0" lang="en-US" sz="700" spc="-1" strike="noStrike" baseline="-25000">
                <a:solidFill>
                  <a:srgbClr val="000000"/>
                </a:solidFill>
                <a:latin typeface="Arial"/>
              </a:rPr>
              <a:t>V210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47560" y="1536840"/>
            <a:ext cx="831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ategor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0560" y="1104840"/>
            <a:ext cx="41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Table S1. Virus binding affinity to sialylglycopolym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33360" y="5961240"/>
            <a:ext cx="6118200" cy="161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33360" y="6659640"/>
            <a:ext cx="6118200" cy="162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33360" y="2817720"/>
            <a:ext cx="6118200" cy="162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33360" y="3341520"/>
            <a:ext cx="6118200" cy="162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3360" y="3691080"/>
            <a:ext cx="6118200" cy="161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3360" y="4040280"/>
            <a:ext cx="6118200" cy="162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33360" y="4564080"/>
            <a:ext cx="6118200" cy="162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33360" y="4913280"/>
            <a:ext cx="6118200" cy="162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33360" y="5262480"/>
            <a:ext cx="6118200" cy="162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33360" y="5611680"/>
            <a:ext cx="6118200" cy="162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33360" y="2992320"/>
            <a:ext cx="6118200" cy="162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33360" y="3516480"/>
            <a:ext cx="6118200" cy="161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33360" y="3865680"/>
            <a:ext cx="6118200" cy="161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33360" y="4214880"/>
            <a:ext cx="6118200" cy="162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33360" y="4738680"/>
            <a:ext cx="6118200" cy="162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33360" y="5087880"/>
            <a:ext cx="6118200" cy="162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33360" y="5437080"/>
            <a:ext cx="6118200" cy="162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33360" y="5786280"/>
            <a:ext cx="6118200" cy="162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33360" y="6310440"/>
            <a:ext cx="6118200" cy="161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33360" y="6834240"/>
            <a:ext cx="6118200" cy="162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33360" y="6135840"/>
            <a:ext cx="6118200" cy="161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33360" y="6485040"/>
            <a:ext cx="6118200" cy="162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33360" y="7008840"/>
            <a:ext cx="6118200" cy="162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33360" y="3166920"/>
            <a:ext cx="6118200" cy="162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3360" y="4389480"/>
            <a:ext cx="6118200" cy="162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33360" y="7180200"/>
            <a:ext cx="6120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343400" y="6986520"/>
            <a:ext cx="792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&lt;0.0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7720" y="6986520"/>
            <a:ext cx="792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9.55 ± 2.9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628640" y="6986520"/>
            <a:ext cx="1871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G/D1-EG/2039</a:t>
            </a:r>
            <a:r>
              <a:rPr b="0" lang="en-US" sz="700" spc="-1" strike="noStrike" baseline="-25000">
                <a:solidFill>
                  <a:srgbClr val="000000"/>
                </a:solidFill>
                <a:latin typeface="Arial"/>
              </a:rPr>
              <a:t>N120S,+129S,T155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343400" y="6811920"/>
            <a:ext cx="792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.09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± 0.1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357720" y="6811920"/>
            <a:ext cx="792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2.32 ± 2.88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628640" y="6811920"/>
            <a:ext cx="14655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G/D1-EG/2039</a:t>
            </a:r>
            <a:r>
              <a:rPr b="0" lang="en-US" sz="700" spc="-1" strike="noStrike" baseline="-25000">
                <a:solidFill>
                  <a:srgbClr val="000000"/>
                </a:solidFill>
                <a:latin typeface="Arial"/>
              </a:rPr>
              <a:t>N120S,T155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43400" y="6638760"/>
            <a:ext cx="792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.09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± 0.1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57720" y="6638760"/>
            <a:ext cx="792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.35 ± 2.8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28640" y="6638760"/>
            <a:ext cx="1871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G/D1-EG/2039</a:t>
            </a:r>
            <a:r>
              <a:rPr b="0" lang="en-US" sz="700" spc="-1" strike="noStrike" baseline="-25000">
                <a:solidFill>
                  <a:srgbClr val="000000"/>
                </a:solidFill>
                <a:latin typeface="Arial"/>
              </a:rPr>
              <a:t>N120S,+129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343400" y="6475320"/>
            <a:ext cx="792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&lt;0.0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357720" y="6475320"/>
            <a:ext cx="792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.32 ± 2.7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628640" y="6475320"/>
            <a:ext cx="14655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G/D1-EG/2039</a:t>
            </a:r>
            <a:r>
              <a:rPr b="0" lang="en-US" sz="700" spc="-1" strike="noStrike" baseline="-25000">
                <a:solidFill>
                  <a:srgbClr val="000000"/>
                </a:solidFill>
                <a:latin typeface="Arial"/>
              </a:rPr>
              <a:t>T151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343400" y="6289560"/>
            <a:ext cx="792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.04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± 0.4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357720" y="6289560"/>
            <a:ext cx="792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.56 ± 2.27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628640" y="6289560"/>
            <a:ext cx="14655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G/D1-EG/2039</a:t>
            </a:r>
            <a:r>
              <a:rPr b="0" lang="en-US" sz="700" spc="-1" strike="noStrike" baseline="-25000">
                <a:solidFill>
                  <a:srgbClr val="000000"/>
                </a:solidFill>
                <a:latin typeface="Arial"/>
              </a:rPr>
              <a:t>N120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43400" y="6114960"/>
            <a:ext cx="792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.09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± 0.1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357720" y="6114960"/>
            <a:ext cx="792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9.24 ± 0.33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628640" y="6114960"/>
            <a:ext cx="14655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G/D1-EG/2039</a:t>
            </a:r>
            <a:r>
              <a:rPr b="0" lang="en-US" sz="700" spc="-1" strike="noStrike" baseline="-25000">
                <a:solidFill>
                  <a:srgbClr val="000000"/>
                </a:solidFill>
                <a:latin typeface="Arial"/>
              </a:rPr>
              <a:t>+129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371840" y="5940360"/>
            <a:ext cx="7923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(2.81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± 0.6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386160" y="5940360"/>
            <a:ext cx="792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(11.03 ± 4.32)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628640" y="6475320"/>
            <a:ext cx="487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628640" y="6475320"/>
            <a:ext cx="4892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343400" y="4197240"/>
            <a:ext cx="792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&lt;0.0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357720" y="4197240"/>
            <a:ext cx="792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.08 ± 0.99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628640" y="4197240"/>
            <a:ext cx="1871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G/D1-EG/4822</a:t>
            </a:r>
            <a:r>
              <a:rPr b="0" lang="en-US" sz="700" spc="-1" strike="noStrike" baseline="-25000">
                <a:solidFill>
                  <a:srgbClr val="000000"/>
                </a:solidFill>
                <a:latin typeface="Arial"/>
              </a:rPr>
              <a:t>H192Q,P235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43400" y="4019400"/>
            <a:ext cx="792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.11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± 0.6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357720" y="4019400"/>
            <a:ext cx="792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9.92 ± 3.18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628640" y="4019400"/>
            <a:ext cx="14655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G/D1-EG/4822</a:t>
            </a:r>
            <a:r>
              <a:rPr b="0" lang="en-US" sz="700" spc="-1" strike="noStrike" baseline="-25000">
                <a:solidFill>
                  <a:srgbClr val="000000"/>
                </a:solidFill>
                <a:latin typeface="Arial"/>
              </a:rPr>
              <a:t>P235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343400" y="3848040"/>
            <a:ext cx="792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&lt;0.0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357720" y="3848040"/>
            <a:ext cx="792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.70 ± 4.15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628640" y="3848040"/>
            <a:ext cx="14655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G/D1-EG/4822</a:t>
            </a:r>
            <a:r>
              <a:rPr b="0" lang="en-US" sz="700" spc="-1" strike="noStrike" baseline="-25000">
                <a:solidFill>
                  <a:srgbClr val="000000"/>
                </a:solidFill>
                <a:latin typeface="Arial"/>
              </a:rPr>
              <a:t>H192Q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371840" y="3673440"/>
            <a:ext cx="7923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(2.84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± 0.33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386160" y="3673440"/>
            <a:ext cx="792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(10.37 ± 1.57)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628640" y="3673440"/>
            <a:ext cx="9763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(rEG/D1-EG/4822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343400" y="5683320"/>
            <a:ext cx="792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357720" y="5683320"/>
            <a:ext cx="792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628640" y="5683320"/>
            <a:ext cx="487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628640" y="5683320"/>
            <a:ext cx="4892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628640" y="4024440"/>
            <a:ext cx="48744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343400" y="5591160"/>
            <a:ext cx="792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&lt;0.0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357720" y="5591160"/>
            <a:ext cx="792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9.23 ± 1.84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628640" y="5591160"/>
            <a:ext cx="1871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G/D1-EG/0929</a:t>
            </a:r>
            <a:r>
              <a:rPr b="0" lang="en-US" sz="700" spc="-1" strike="noStrike" baseline="-25000">
                <a:solidFill>
                  <a:srgbClr val="000000"/>
                </a:solidFill>
                <a:latin typeface="Arial"/>
              </a:rPr>
              <a:t>N120S,+129S,T151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343400" y="5419800"/>
            <a:ext cx="792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&lt;0.0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357720" y="5419800"/>
            <a:ext cx="792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9.36 ± 3.24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628640" y="5419800"/>
            <a:ext cx="14655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G/D1-EG/0929</a:t>
            </a:r>
            <a:r>
              <a:rPr b="0" lang="en-US" sz="700" spc="-1" strike="noStrike" baseline="-25000">
                <a:solidFill>
                  <a:srgbClr val="000000"/>
                </a:solidFill>
                <a:latin typeface="Arial"/>
              </a:rPr>
              <a:t>N120S,T151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343400" y="5243400"/>
            <a:ext cx="792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&lt;0.0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357720" y="5243400"/>
            <a:ext cx="792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4.38 ± 2.79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628640" y="5243400"/>
            <a:ext cx="1871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G/D1-EG/0929</a:t>
            </a:r>
            <a:r>
              <a:rPr b="0" lang="en-US" sz="700" spc="-1" strike="noStrike" baseline="-25000">
                <a:solidFill>
                  <a:srgbClr val="000000"/>
                </a:solidFill>
                <a:latin typeface="Arial"/>
              </a:rPr>
              <a:t>N120S,+129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343400" y="5068800"/>
            <a:ext cx="792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.02 ±0.04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357720" y="5068800"/>
            <a:ext cx="792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1.22 ± 1.19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28640" y="5068800"/>
            <a:ext cx="14655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G/D1-EG/0929</a:t>
            </a:r>
            <a:r>
              <a:rPr b="0" lang="en-US" sz="700" spc="-1" strike="noStrike" baseline="-25000">
                <a:solidFill>
                  <a:srgbClr val="000000"/>
                </a:solidFill>
                <a:latin typeface="Arial"/>
              </a:rPr>
              <a:t>T151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4894200"/>
            <a:ext cx="792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.60 ±0.7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357720" y="4894200"/>
            <a:ext cx="792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9.23 ± 2.16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628640" y="4894200"/>
            <a:ext cx="14655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G/D1-EG/0929</a:t>
            </a:r>
            <a:r>
              <a:rPr b="0" lang="en-US" sz="700" spc="-1" strike="noStrike" baseline="-25000">
                <a:solidFill>
                  <a:srgbClr val="000000"/>
                </a:solidFill>
                <a:latin typeface="Arial"/>
              </a:rPr>
              <a:t>N120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343400" y="4719600"/>
            <a:ext cx="792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.04 ± 0.0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7720" y="4719600"/>
            <a:ext cx="792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1.96 ± 0.8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628640" y="4719600"/>
            <a:ext cx="14655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G/D1-EG/0929</a:t>
            </a:r>
            <a:r>
              <a:rPr b="0" lang="en-US" sz="700" spc="-1" strike="noStrike" baseline="-25000">
                <a:solidFill>
                  <a:srgbClr val="000000"/>
                </a:solidFill>
                <a:latin typeface="Arial"/>
              </a:rPr>
              <a:t>+129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349880" y="4545000"/>
            <a:ext cx="792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(3.41 ±1.47)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386160" y="4545000"/>
            <a:ext cx="792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(10.18 ± 2.97)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628640" y="4545000"/>
            <a:ext cx="9763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(rEG/D1-EG/0929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33360" y="2622600"/>
            <a:ext cx="6118200" cy="162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33360" y="2451240"/>
            <a:ext cx="6118200" cy="161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599080" y="6986520"/>
            <a:ext cx="5763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954.5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599080" y="6811920"/>
            <a:ext cx="5763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30.65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599080" y="6638760"/>
            <a:ext cx="5763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15.5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599080" y="6475320"/>
            <a:ext cx="5763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32.17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599080" y="6289560"/>
            <a:ext cx="5763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.48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599080" y="6114960"/>
            <a:ext cx="5763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6.57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627520" y="5940360"/>
            <a:ext cx="5763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(3.91)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99080" y="4197240"/>
            <a:ext cx="5763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08.44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599080" y="4019400"/>
            <a:ext cx="5763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.19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599080" y="3848040"/>
            <a:ext cx="5763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69.6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627520" y="3673440"/>
            <a:ext cx="5763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(3.65)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599080" y="5683320"/>
            <a:ext cx="5763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599080" y="5591160"/>
            <a:ext cx="5763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923.0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599080" y="5419800"/>
            <a:ext cx="5763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936.15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599080" y="5243400"/>
            <a:ext cx="5763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437.93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599080" y="5068800"/>
            <a:ext cx="5763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29.49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599080" y="4894200"/>
            <a:ext cx="5763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.56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599080" y="4719600"/>
            <a:ext cx="5763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33.14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627520" y="4545000"/>
            <a:ext cx="5763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(2.97)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99080" y="6986520"/>
            <a:ext cx="576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628640" y="6289560"/>
            <a:ext cx="57636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628640" y="5418000"/>
            <a:ext cx="57636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637160" y="2625840"/>
            <a:ext cx="182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628640" y="2625840"/>
            <a:ext cx="489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297400" y="2519280"/>
            <a:ext cx="878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Relative value</a:t>
            </a:r>
            <a:r>
              <a:rPr b="0" lang="ja-JP" sz="7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551480" y="2611440"/>
            <a:ext cx="583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,6 S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456080" y="2322360"/>
            <a:ext cx="18252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444840" y="2611440"/>
            <a:ext cx="704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,3 S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33360" y="2813040"/>
            <a:ext cx="6120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219480" y="2433600"/>
            <a:ext cx="20160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Association constant (</a:t>
            </a:r>
            <a:r>
              <a:rPr b="0" i="1" lang="ja-JP" sz="7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ja-JP" sz="7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ja-JP" sz="7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ja-JP" sz="7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 sialic acid)</a:t>
            </a:r>
            <a:r>
              <a:rPr b="0" lang="ja-JP" sz="700" spc="-1" strike="noStrike" baseline="30000">
                <a:solidFill>
                  <a:srgbClr val="000000"/>
                </a:solidFill>
                <a:latin typeface="Arial"/>
              </a:rPr>
              <a:t>a,b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33360" y="2440080"/>
            <a:ext cx="6120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628640" y="2519280"/>
            <a:ext cx="831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ru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328920" y="2622600"/>
            <a:ext cx="19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28760" y="2800440"/>
            <a:ext cx="976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combinant viru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343400" y="3324240"/>
            <a:ext cx="792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.07 ± 0.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357720" y="3324240"/>
            <a:ext cx="792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5.09 ± 4.26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628640" y="3324240"/>
            <a:ext cx="1465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G/D1-EG/12</a:t>
            </a:r>
            <a:r>
              <a:rPr b="0" lang="en-US" sz="700" spc="-1" strike="noStrike" baseline="-25000">
                <a:solidFill>
                  <a:srgbClr val="000000"/>
                </a:solidFill>
                <a:latin typeface="Arial"/>
              </a:rPr>
              <a:t>H192Q,P235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343400" y="3149640"/>
            <a:ext cx="792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6.72 ± 2.4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357720" y="3149640"/>
            <a:ext cx="792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7.10 ± 1.66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628640" y="3149640"/>
            <a:ext cx="1465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G/D1-EG/12</a:t>
            </a:r>
            <a:r>
              <a:rPr b="0" lang="en-US" sz="700" spc="-1" strike="noStrike" baseline="-25000">
                <a:solidFill>
                  <a:srgbClr val="000000"/>
                </a:solidFill>
                <a:latin typeface="Arial"/>
              </a:rPr>
              <a:t>P235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343400" y="2975040"/>
            <a:ext cx="792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.12 ± 0.2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357720" y="2975040"/>
            <a:ext cx="792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3.65 ± 2.73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628640" y="2975040"/>
            <a:ext cx="1465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G/D1-EG/12</a:t>
            </a:r>
            <a:r>
              <a:rPr b="0" lang="en-US" sz="700" spc="-1" strike="noStrike" baseline="-25000">
                <a:solidFill>
                  <a:srgbClr val="000000"/>
                </a:solidFill>
                <a:latin typeface="Arial"/>
              </a:rPr>
              <a:t>H192Q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599080" y="3324240"/>
            <a:ext cx="576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09.9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99080" y="3149640"/>
            <a:ext cx="576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.54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599080" y="2975040"/>
            <a:ext cx="576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10.55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627520" y="2800440"/>
            <a:ext cx="576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(3.27)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371840" y="2800440"/>
            <a:ext cx="792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(4.74 ± 1.98)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386160" y="2800440"/>
            <a:ext cx="792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(15.55 ± 3.29)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628640" y="2800440"/>
            <a:ext cx="976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(rEG/D1-EG/12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628640" y="5940360"/>
            <a:ext cx="9763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(rEG/D1-EG/2039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28760" y="2519280"/>
            <a:ext cx="831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ategor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8760" y="2975040"/>
            <a:ext cx="912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76120" y="7291440"/>
            <a:ext cx="599616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ja-JP" sz="700" spc="-1" strike="noStrike">
                <a:solidFill>
                  <a:srgbClr val="000000"/>
                </a:solidFill>
                <a:latin typeface="Arial"/>
              </a:rPr>
              <a:t> Dose-response curves of virus binding to the sialic acid (SA) were analyzed using a single site binding algorithm and curve fitting by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700" spc="-1" strike="noStrike">
                <a:solidFill>
                  <a:srgbClr val="000000"/>
                </a:solidFill>
                <a:latin typeface="Arial"/>
              </a:rPr>
              <a:t>GraphPad Prism to determine the association constant values (</a:t>
            </a:r>
            <a:r>
              <a:rPr b="1" i="1" lang="ja-JP" sz="7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ja-JP" sz="7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ja-JP" sz="7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33720" y="7674120"/>
            <a:ext cx="427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 baseline="30000">
                <a:solidFill>
                  <a:srgbClr val="000000"/>
                </a:solidFill>
                <a:latin typeface="Arial"/>
              </a:rPr>
              <a:t>b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Each value is the mean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±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SD of three to six experiments, which were each performed in triplicate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14640" y="7948440"/>
            <a:ext cx="3999600" cy="2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r>
              <a:rPr b="1" i="1" lang="ja-JP" sz="7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ja-JP" sz="7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ja-JP" sz="7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ja-JP" sz="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ja-JP" sz="700" spc="-1" strike="noStrike">
                <a:solidFill>
                  <a:srgbClr val="000000"/>
                </a:solidFill>
                <a:latin typeface="Arial"/>
              </a:rPr>
              <a:t>2,3 SA)/</a:t>
            </a:r>
            <a:r>
              <a:rPr b="1" i="1" lang="ja-JP" sz="7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ja-JP" sz="7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ja-JP" sz="7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ja-JP" sz="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ja-JP" sz="700" spc="-1" strike="noStrike">
                <a:solidFill>
                  <a:srgbClr val="000000"/>
                </a:solidFill>
                <a:latin typeface="Arial"/>
              </a:rPr>
              <a:t>2,6 SA), lower relative values reflect higher binding specificity to </a:t>
            </a:r>
            <a:r>
              <a:rPr b="1" lang="ja-JP" sz="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ja-JP" sz="700" spc="-1" strike="noStrike">
                <a:solidFill>
                  <a:srgbClr val="000000"/>
                </a:solidFill>
                <a:latin typeface="Arial"/>
              </a:rPr>
              <a:t>2,6 SA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51640" y="2028960"/>
            <a:ext cx="501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Table S1 (</a:t>
            </a:r>
            <a:r>
              <a:rPr b="1" i="1" lang="ja-JP" sz="1200" spc="-1" strike="noStrike">
                <a:solidFill>
                  <a:srgbClr val="000000"/>
                </a:solidFill>
                <a:latin typeface="Arial"/>
              </a:rPr>
              <a:t>continued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). Virus binding affinity to sialylglycopolym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09:12:28Z</dcterms:created>
  <dc:creator>nabe</dc:creator>
  <dc:description/>
  <dc:language>en-US</dc:language>
  <cp:lastModifiedBy>nabe</cp:lastModifiedBy>
  <dcterms:modified xsi:type="dcterms:W3CDTF">2011-03-25T07:55:31Z</dcterms:modified>
  <cp:revision>111</cp:revision>
  <dc:subject/>
  <dc:title>スライド 1</dc:title>
</cp:coreProperties>
</file>