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754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B9D2-EA20-479F-AF32-39EC4C6D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E68-9E33-491C-9E00-7A04A293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1F4-430E-4742-84A5-0CD0E1EA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243-78C4-4261-88F6-51FF4FFC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3C7-C60C-4B1B-91D3-EA255C52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AB48-6DAB-4F49-91A2-C2B96CDD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843D-5F3D-409C-8D6B-CF9B6207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1C5-E2E2-471E-BE98-03EF0FC3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7AB-4628-467E-95E9-496E4A68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B62-BCB6-46E2-B56C-FF6D0534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EB0-F156-4C3F-9A5F-AAF1AA93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9A1-3FF5-471C-904A-25252679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E7D2-DDBD-4AF8-B955-171AB2608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040" y="1033560"/>
            <a:ext cx="8097840" cy="287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66920" y="1054080"/>
            <a:ext cx="88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192 mu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25920" y="1052640"/>
            <a:ext cx="152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9</a:t>
            </a:r>
            <a:r>
              <a:rPr b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I151T double mu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84560" y="790560"/>
            <a:ext cx="84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Strains with</a:t>
            </a:r>
            <a:r>
              <a:rPr b="1" lang="ja-JP" sz="800" spc="-1" strike="noStrike" baseline="30000">
                <a:solidFill>
                  <a:srgbClr val="000000"/>
                </a:solidFill>
                <a:latin typeface="Arial"/>
              </a:rPr>
              <a:t>c,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0040" y="1576440"/>
            <a:ext cx="8097840" cy="287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27360" y="18828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27360" y="16095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32400" y="1336680"/>
            <a:ext cx="255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uail/Nanchang/12-340/2000 (H1N1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[AAN83988]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18828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6095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71600" y="1336680"/>
            <a:ext cx="253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uail/Nanchang/12-340/2000 (H1N1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[AAN83988]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8600" y="1293840"/>
            <a:ext cx="809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8600" y="752400"/>
            <a:ext cx="809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8600" y="4406760"/>
            <a:ext cx="809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79760" y="1030320"/>
            <a:ext cx="601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1000" y="363600"/>
            <a:ext cx="796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S2. Virus strains encoding HA 129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I151T and Q192H mutations in avian influenza A virus subtyp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5160" y="5230800"/>
            <a:ext cx="53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quence data from the National Center for Biotechnology Information Influenza Virus resource databas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7680" y="5661000"/>
            <a:ext cx="94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5 number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8760" y="5445000"/>
            <a:ext cx="44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 baseline="30000">
                <a:solidFill>
                  <a:srgbClr val="000000"/>
                </a:solidFill>
                <a:latin typeface="Arial"/>
              </a:rPr>
              <a:t>b </a:t>
            </a: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Sequences of viruses from bird species (minimum sequence length 200 aa) are show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9480" y="5875200"/>
            <a:ext cx="293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ession number for each virus is shown in bracket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9829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040" y="2122560"/>
            <a:ext cx="8097840" cy="287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040" y="2674800"/>
            <a:ext cx="8097840" cy="287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31680" y="2428920"/>
            <a:ext cx="252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urkey/Minnesota/40550/1987 (H5N2) [ACF25679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27360" y="27018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27360" y="215568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42892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27018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215568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040" y="3220920"/>
            <a:ext cx="8097840" cy="287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040" y="3773520"/>
            <a:ext cx="8097840" cy="287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27360" y="29811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27360" y="352728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27360" y="380052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27360" y="32544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352728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80052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32544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463392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040" y="4325760"/>
            <a:ext cx="8097840" cy="287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31680" y="4079880"/>
            <a:ext cx="291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uddy turnstone/Delaware/2762/1987 (H11N2) [ABI8444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27360" y="43527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407988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43527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0040" y="4871880"/>
            <a:ext cx="8097840" cy="287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16040" y="1336680"/>
            <a:ext cx="367200" cy="3783960"/>
            <a:chOff x="716040" y="1336680"/>
            <a:chExt cx="367200" cy="3783960"/>
          </a:xfrm>
        </p:grpSpPr>
        <p:sp>
          <p:nvSpPr>
            <p:cNvPr id="87" name=""/>
            <p:cNvSpPr/>
            <p:nvPr/>
          </p:nvSpPr>
          <p:spPr>
            <a:xfrm>
              <a:off x="716040" y="188244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6040" y="160956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6040" y="133668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6040" y="215568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6040" y="242856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6040" y="270180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6040" y="325404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6040" y="298116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6040" y="3527280"/>
              <a:ext cx="310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16760" y="3800160"/>
              <a:ext cx="36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6760" y="4079520"/>
              <a:ext cx="36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6760" y="4352760"/>
              <a:ext cx="36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6760" y="4905000"/>
              <a:ext cx="36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6760" y="4632120"/>
              <a:ext cx="36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1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727360" y="463248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27360" y="4905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4905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8600" y="5126040"/>
            <a:ext cx="809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5680" y="93024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b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520" y="188280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3520" y="160956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3520" y="133668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3520" y="215568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3520" y="242892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8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520" y="270180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520" y="32544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520" y="298116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352728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8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520" y="380052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3520" y="407988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3520" y="43527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520" y="49053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520" y="463248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1360" y="885960"/>
            <a:ext cx="69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Number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Arial"/>
              </a:rPr>
              <a:t>strains</a:t>
            </a:r>
            <a:r>
              <a:rPr b="1" lang="ja-JP" sz="800" spc="-1" strike="noStrike" baseline="30000">
                <a:solidFill>
                  <a:srgbClr val="000000"/>
                </a:solidFill>
                <a:latin typeface="Arial"/>
              </a:rPr>
              <a:t>a,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5520" y="6310440"/>
            <a:ext cx="280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 denotes no virus strains with the indicated mut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600" y="6091200"/>
            <a:ext cx="537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is strain does not have a deletion of 129 residue, but has an adjacent 127 deletion in addition to Thr15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05:02:37Z</dcterms:created>
  <dc:creator>nabe</dc:creator>
  <dc:description/>
  <dc:language>en-US</dc:language>
  <cp:lastModifiedBy>nabe</cp:lastModifiedBy>
  <dcterms:modified xsi:type="dcterms:W3CDTF">2011-03-25T08:10:23Z</dcterms:modified>
  <cp:revision>15</cp:revision>
  <dc:subject/>
  <dc:title>スライド 1</dc:title>
</cp:coreProperties>
</file>