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9ED-66DA-46AD-BC71-5B9AB6EE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A20-E52D-4A1A-8332-597EC335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1AE-4E43-410B-BF04-65C639EB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9CC-BA3A-4ED2-A95E-4D8B14C7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E6B-3669-414A-9682-BA2C6C7F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987-CAA6-4F13-BFE2-7D3D736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AEA-F44B-4CAB-B6DA-E752937D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24F-04C6-47E5-AA87-DCA820CA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BE4-0588-47A1-A9BE-C6FB0AAF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09A-4E22-461C-BE95-A3BD1CD4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9EA-8D65-462E-81A9-7ED191A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13C-CB32-4F64-A545-212790E2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D0B6-87A1-4799-8C54-F617908D2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ate-1"/>
          <p:cNvPicPr/>
          <p:nvPr/>
        </p:nvPicPr>
        <p:blipFill>
          <a:blip r:embed="rId1"/>
          <a:srcRect l="7587" t="0" r="50002" b="0"/>
          <a:stretch/>
        </p:blipFill>
        <p:spPr>
          <a:xfrm>
            <a:off x="380880" y="1447920"/>
            <a:ext cx="2422800" cy="3848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pate-2"/>
          <p:cNvPicPr/>
          <p:nvPr/>
        </p:nvPicPr>
        <p:blipFill>
          <a:blip r:embed="rId2"/>
          <a:srcRect l="5092" t="8026" r="35033" b="16670"/>
          <a:stretch/>
        </p:blipFill>
        <p:spPr>
          <a:xfrm>
            <a:off x="2971800" y="1676520"/>
            <a:ext cx="3886200" cy="3292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pate-3"/>
          <p:cNvPicPr/>
          <p:nvPr/>
        </p:nvPicPr>
        <p:blipFill>
          <a:blip r:embed="rId3"/>
          <a:srcRect l="4263" t="10493" r="34200" b="17900"/>
          <a:stretch/>
        </p:blipFill>
        <p:spPr>
          <a:xfrm>
            <a:off x="0" y="5391000"/>
            <a:ext cx="3962520" cy="3105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pate-4"/>
          <p:cNvPicPr/>
          <p:nvPr/>
        </p:nvPicPr>
        <p:blipFill>
          <a:blip r:embed="rId4"/>
          <a:srcRect l="2597" t="0" r="49004" b="16670"/>
          <a:stretch/>
        </p:blipFill>
        <p:spPr>
          <a:xfrm>
            <a:off x="3276720" y="5029200"/>
            <a:ext cx="3581280" cy="4152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441720" y="420840"/>
            <a:ext cx="594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S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 PATE THREE DIMEN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SHOWN IN DIFFERENT ORI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pate-f 4"/>
          <p:cNvPicPr/>
          <p:nvPr/>
        </p:nvPicPr>
        <p:blipFill>
          <a:blip r:embed="rId1"/>
          <a:srcRect l="15904" t="19137" r="19232" b="22840"/>
          <a:stretch/>
        </p:blipFill>
        <p:spPr>
          <a:xfrm>
            <a:off x="3505320" y="6081840"/>
            <a:ext cx="3429000" cy="2066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594000" y="1030320"/>
            <a:ext cx="59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 PATE –F THREE DIMEN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SHOWN IN DIFFERENT ORI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pate-f 1"/>
          <p:cNvPicPr/>
          <p:nvPr/>
        </p:nvPicPr>
        <p:blipFill>
          <a:blip r:embed="rId2"/>
          <a:srcRect l="20893" t="1855" r="32538" b="4322"/>
          <a:stretch/>
        </p:blipFill>
        <p:spPr>
          <a:xfrm>
            <a:off x="276120" y="2133720"/>
            <a:ext cx="2695680" cy="365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pate-f 2"/>
          <p:cNvPicPr/>
          <p:nvPr/>
        </p:nvPicPr>
        <p:blipFill>
          <a:blip r:embed="rId3"/>
          <a:srcRect l="16737" t="11729" r="18399" b="12966"/>
          <a:stretch/>
        </p:blipFill>
        <p:spPr>
          <a:xfrm>
            <a:off x="2895480" y="2514600"/>
            <a:ext cx="3962520" cy="309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ate-f 3"/>
          <p:cNvPicPr/>
          <p:nvPr/>
        </p:nvPicPr>
        <p:blipFill>
          <a:blip r:embed="rId4"/>
          <a:srcRect l="22115" t="16670" r="19232" b="17900"/>
          <a:stretch/>
        </p:blipFill>
        <p:spPr>
          <a:xfrm>
            <a:off x="-76320" y="5557680"/>
            <a:ext cx="36576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9:35:47Z</dcterms:created>
  <dc:creator>Dr. SURESH</dc:creator>
  <dc:description/>
  <dc:language>en-US</dc:language>
  <cp:lastModifiedBy>suresh</cp:lastModifiedBy>
  <dcterms:modified xsi:type="dcterms:W3CDTF">2012-02-10T01:12:56Z</dcterms:modified>
  <cp:revision>12</cp:revision>
  <dc:subject/>
  <dc:title>Slide 1</dc:title>
</cp:coreProperties>
</file>